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38.jpeg" ContentType="image/jpeg"/>
  <Override PartName="/ppt/media/image24.png" ContentType="image/png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4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0600" y="-360"/>
            <a:ext cx="298584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2A2-1E1D-4467-971A-1CC1F8F5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EB4-895F-48C3-AF01-37E229839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9BA1-31EC-48C1-93AB-711B56CC5E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61E9-F7C4-45F4-8F08-8A5C76E06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18E-BE71-4528-BA52-9789AD7141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9E5D-0830-4617-BEC3-E7B205C24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9080" y="1252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4A8-72A7-48FD-ACE3-670148667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29A-D989-4FDA-BDC6-54FE4DF8DB66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CB5-3ECC-465C-B73D-41E3831F0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DF0-FD99-45A2-9E3B-B3B303D6F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16E-761E-4B47-B41C-DA041A181BA9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5016240" cy="3762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18C-F2F0-4A35-8D74-DB1539C76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5016240" cy="3762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974-7E5B-40C6-97F1-82A81DE26B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6D0-BC5C-4EB0-AA9C-95265B30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600-0918-4F96-8AB9-DDEDF0A0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EBA-9ED6-4992-A8D0-D1B5AAE7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90D-49A4-4430-8758-59A9FCAC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0D23-1096-4ABD-8D86-D31405AA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E841-D79A-43A7-BAA4-3766685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B5D-4E58-4ECA-A6DC-A4068A50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711-CE37-4C2E-B242-F08E1AB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4497-640D-43BC-8785-E967F76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9144-9A85-423E-81E9-386AAAF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409-3525-4ECD-AE92-E1455458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C94-2301-4716-97CF-73BCBC9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59E-AF20-4C53-93E0-63FF346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12B-29A6-4DE6-BE32-B538175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D67-3F1A-4605-82B7-FF32595C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12A-4133-49F9-8579-E4B926AD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87FE-CD43-4779-BA9C-966BC09F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400-91BC-48B3-B0BF-3A46C20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2EB-4950-497D-B051-795F359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793-11A7-45E2-8F2D-4DE9DD0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5EB-9C48-43A0-BAEB-746F9E4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3B9-EF98-474A-8833-E3F8515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4BF-211C-4D8B-94E0-6557DEA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3BA-C422-4C28-B36A-9878D53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1850-73E6-4962-ACF7-85F9FC970DF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6F0-A8BE-49B8-90AB-93C01AFD718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98440" y="2462040"/>
            <a:ext cx="8547120" cy="242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leh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SRI WAHYUNI, 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KEPALA DPMPPA  KOTA PEKALONG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657600" y="18108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PERIODISASI PERKEMBANGAN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762120" y="3048120"/>
            <a:ext cx="7924680" cy="838080"/>
          </a:xfrm>
          <a:prstGeom prst="rightArrow">
            <a:avLst>
              <a:gd name="adj1" fmla="val 60231"/>
              <a:gd name="adj2" fmla="val 11859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  1  2  3  4  5  6  7  8  9  10  11  12  13  14  15  16  17 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85800" y="1600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sa dalam </a:t>
            </a:r>
            <a:r>
              <a:rPr b="1" lang="id-ID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dunga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sa formatif pertumbuhan fis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29528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1600200" y="3962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1905120" y="40384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33520" y="548496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wah Tiga Tahu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kembangan motorik (otot dan refleks), penyenpurnaan panca indra, bahasa, keterdekatan sosial dan emosional dengan pengasu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2209680" y="41148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V="1">
            <a:off x="2438280" y="4114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076480" y="4413240"/>
            <a:ext cx="335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wah Lima Tahu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nyempurnaan otot, tulang, kemampuan bahasa, persiapan sekola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2895480" y="3000240"/>
            <a:ext cx="4462560" cy="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4267080" y="25146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962520" y="1981080"/>
            <a:ext cx="3733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3809880" y="1981080"/>
            <a:ext cx="335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3962520" y="1571760"/>
            <a:ext cx="37335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ia Seko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ajar norma sosial-kultural, keterampilan skolast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4500720" y="3992400"/>
            <a:ext cx="2857320" cy="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943600" y="4038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562720" y="4699080"/>
            <a:ext cx="327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sa Rem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tumbuhan tanda-tanda seksual sekunder, perkembangan hubungan heteroseksual, persiapan mengandung dan melahirkan untuk perempu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"/>
          <p:cNvSpPr/>
          <p:nvPr/>
        </p:nvSpPr>
        <p:spPr>
          <a:xfrm>
            <a:off x="304920" y="971640"/>
            <a:ext cx="51814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Constantia"/>
              </a:rPr>
              <a:t>Adalah seseorang yang belum berusia 18 (delapan belas) tahun, termasuk anak yang masih dalam kand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70c0"/>
                </a:solidFill>
                <a:latin typeface="Constantia"/>
              </a:rPr>
              <a:t>UU Perlindungan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Anak medan 1.png"/>
          <p:cNvPicPr/>
          <p:nvPr/>
        </p:nvPicPr>
        <p:blipFill>
          <a:blip r:embed="rId1"/>
          <a:stretch/>
        </p:blipFill>
        <p:spPr>
          <a:xfrm>
            <a:off x="6089760" y="523800"/>
            <a:ext cx="2523960" cy="5657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26880" y="3505320"/>
            <a:ext cx="50292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HAK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-HAK </a:t>
            </a: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Bagian dari HAM yang WAJIB DIJAMIN, DILINDUNGI DAN DIPENUHI orang tua, keluarga, masyarakat, pemerintah dan neg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6" name="Content Placeholder 2" descr=""/>
          <p:cNvPicPr/>
          <p:nvPr/>
        </p:nvPicPr>
        <p:blipFill>
          <a:blip r:embed="rId1"/>
          <a:srcRect l="0" t="0" r="0" b="13940"/>
          <a:stretch/>
        </p:blipFill>
        <p:spPr>
          <a:xfrm>
            <a:off x="76320" y="76320"/>
            <a:ext cx="907560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5840" y="380880"/>
            <a:ext cx="7958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500" spc="-1" strike="noStrike">
                <a:solidFill>
                  <a:srgbClr val="ff33cc"/>
                </a:solidFill>
                <a:latin typeface="Tahoma"/>
                <a:ea typeface="Tahoma"/>
              </a:rPr>
              <a:t>ANAK </a:t>
            </a:r>
            <a:r>
              <a:rPr b="1" lang="en-US" sz="4500" spc="-1" strike="noStrike">
                <a:solidFill>
                  <a:srgbClr val="ff33cc"/>
                </a:solidFill>
                <a:latin typeface="Tahoma"/>
                <a:ea typeface="Tahoma"/>
              </a:rPr>
              <a:t>KOTA PEKALONGAN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569600"/>
            <a:ext cx="85345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Jumlah anak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98.204 dari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309.901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 jumlah penduduk</a:t>
            </a: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Harus berkualit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Agar tidak menjadi beban pembangun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TERDAPAT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31 HAK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Amanat UU No. 23/2002 tentang Perlindungan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16" descr="D:\LOMBA 17 Agustus\FOTO KEGIATAN LOMBA\LARI kARUNG\S4030049.JPG"/>
          <p:cNvPicPr/>
          <p:nvPr/>
        </p:nvPicPr>
        <p:blipFill>
          <a:blip r:embed="rId1"/>
          <a:stretch/>
        </p:blipFill>
        <p:spPr>
          <a:xfrm>
            <a:off x="3429000" y="4807080"/>
            <a:ext cx="242892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52160" y="-69840"/>
            <a:ext cx="4529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0" spc="-1" strike="noStrike">
                <a:solidFill>
                  <a:srgbClr val="ffc000"/>
                </a:solidFill>
                <a:latin typeface="Rockwell Condensed"/>
                <a:ea typeface="Tahoma"/>
              </a:rPr>
              <a:t>MASALAH ANAK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endidikan</a:t>
            </a:r>
            <a:r>
              <a:rPr b="1" lang="id-ID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pra sekolah, SD-SLTA, di lingkungan keluarga, di masyarakat, di panti, di lapas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Kesehatan dan gizi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kematian bayi dan balita, gizi kurang dan buruk, penyakit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Anak berhadapan dengan hukum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apakah di lapas terpenuhi hak-haknya (pendidikan, kesehatan, dll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Kekerasan terhadap anak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KDRT,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bullying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(di sekolah,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peer group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Masalah sosial anak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anak jalanan, pekerja  anak, eksploitasi (seksual dan ekonomi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Belum semua anak memiliki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akta kelahiran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Banyak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informasi yang tidak layak dikonsumsi anak</a:t>
            </a:r>
            <a:r>
              <a:rPr b="1" lang="id-ID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cetak, elektronik –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on-line game)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Anak berkebutuhan khusus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genius, terbelakang): apakah sudah terpenuhi hak-haknya (pendidikan, kesehatan, fasum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enanaman nilai-nilai luhur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ulai pudar: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national character building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artisipasi anak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asih rendah: terbatasnya wadah anak untuk menyampaikan pendapat (Forum Anak), pemanfaatan waktu luang, kegiatan seni budaya (sanggar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Infrastruktur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: rute aman ke sekolah, taman kota, TPA di perkantoran, ruang menyusui di perkantoran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 dan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al, sekolah/RS ramah anak, lapas anak, sekolah untuk ABK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Payung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kebijakan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anak (terutama di daerah),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lembaga</a:t>
            </a:r>
            <a:r>
              <a:rPr b="1" lang="id-ID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di daerah) yang menangani/mengkoordinasikan pembangunan anak, </a:t>
            </a:r>
            <a:r>
              <a:rPr b="1" lang="id-ID" sz="1600" spc="-1" strike="noStrike" u="sng">
                <a:solidFill>
                  <a:srgbClr val="ffffff"/>
                </a:solidFill>
                <a:uFillTx/>
                <a:latin typeface="Constantia"/>
              </a:rPr>
              <a:t>anggaran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untuk anak, dll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Oval 7"/>
          <p:cNvGrpSpPr/>
          <p:nvPr/>
        </p:nvGrpSpPr>
        <p:grpSpPr>
          <a:xfrm>
            <a:off x="835200" y="2425680"/>
            <a:ext cx="7546680" cy="4621320"/>
            <a:chOff x="835200" y="2425680"/>
            <a:chExt cx="7546680" cy="4621320"/>
          </a:xfrm>
        </p:grpSpPr>
        <p:pic>
          <p:nvPicPr>
            <p:cNvPr id="203" name="Oval 7" descr=""/>
            <p:cNvPicPr/>
            <p:nvPr/>
          </p:nvPicPr>
          <p:blipFill>
            <a:blip r:embed="rId1"/>
            <a:stretch/>
          </p:blipFill>
          <p:spPr>
            <a:xfrm>
              <a:off x="835200" y="2425680"/>
              <a:ext cx="754668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20551200">
              <a:off x="2045880" y="3459240"/>
              <a:ext cx="5121360" cy="25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655308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Untuk mengatasi masalah anak </a:t>
            </a:r>
            <a:r>
              <a:rPr b="1" lang="id-ID" sz="2900" spc="-1" strike="noStrike">
                <a:solidFill>
                  <a:srgbClr val="91c6f7"/>
                </a:solidFill>
                <a:latin typeface="Wingdings"/>
                <a:ea typeface="Wingdings"/>
              </a:rPr>
              <a:t></a:t>
            </a: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 harus terjadi p</a:t>
            </a: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erubahan </a:t>
            </a:r>
            <a:br>
              <a:rPr sz="2900"/>
            </a:b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Paradigma</a:t>
            </a: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Pembangunan Anak</a:t>
            </a: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206" name="TextBox 3"/>
          <p:cNvGrpSpPr/>
          <p:nvPr/>
        </p:nvGrpSpPr>
        <p:grpSpPr>
          <a:xfrm>
            <a:off x="469800" y="4784760"/>
            <a:ext cx="2687760" cy="1573200"/>
            <a:chOff x="469800" y="4784760"/>
            <a:chExt cx="2687760" cy="1573200"/>
          </a:xfrm>
        </p:grpSpPr>
        <p:pic>
          <p:nvPicPr>
            <p:cNvPr id="207" name="TextBox 3" descr=""/>
            <p:cNvPicPr/>
            <p:nvPr/>
          </p:nvPicPr>
          <p:blipFill>
            <a:blip r:embed="rId2"/>
            <a:stretch/>
          </p:blipFill>
          <p:spPr>
            <a:xfrm>
              <a:off x="469800" y="4784760"/>
              <a:ext cx="2687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73840" y="4863960"/>
              <a:ext cx="2454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Parsial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Segmentatif</a:t>
              </a: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Sektor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TextBox 4"/>
          <p:cNvGrpSpPr/>
          <p:nvPr/>
        </p:nvGrpSpPr>
        <p:grpSpPr>
          <a:xfrm>
            <a:off x="5846760" y="3041640"/>
            <a:ext cx="3389400" cy="2156400"/>
            <a:chOff x="5846760" y="3041640"/>
            <a:chExt cx="3389400" cy="2156400"/>
          </a:xfrm>
        </p:grpSpPr>
        <p:pic>
          <p:nvPicPr>
            <p:cNvPr id="210" name="TextBox 4" descr=""/>
            <p:cNvPicPr/>
            <p:nvPr/>
          </p:nvPicPr>
          <p:blipFill>
            <a:blip r:embed="rId3"/>
            <a:stretch/>
          </p:blipFill>
          <p:spPr>
            <a:xfrm>
              <a:off x="5846760" y="3041640"/>
              <a:ext cx="33894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943600" y="3154320"/>
              <a:ext cx="3071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H</a:t>
              </a: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olistik </a:t>
              </a: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Integratif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Berkelanjut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TextBox 6"/>
          <p:cNvSpPr/>
          <p:nvPr/>
        </p:nvSpPr>
        <p:spPr>
          <a:xfrm>
            <a:off x="7444440" y="1969920"/>
            <a:ext cx="16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i mas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ata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24600" y="3722760"/>
            <a:ext cx="150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Freeform 20"/>
          <p:cNvGrpSpPr/>
          <p:nvPr/>
        </p:nvGrpSpPr>
        <p:grpSpPr>
          <a:xfrm>
            <a:off x="1816200" y="2084400"/>
            <a:ext cx="4700520" cy="3114000"/>
            <a:chOff x="1816200" y="2084400"/>
            <a:chExt cx="4700520" cy="3114000"/>
          </a:xfrm>
        </p:grpSpPr>
        <p:pic>
          <p:nvPicPr>
            <p:cNvPr id="215" name="Freeform 20" descr=""/>
            <p:cNvPicPr/>
            <p:nvPr/>
          </p:nvPicPr>
          <p:blipFill>
            <a:blip r:embed="rId4"/>
            <a:stretch/>
          </p:blipFill>
          <p:spPr>
            <a:xfrm>
              <a:off x="1816200" y="2084400"/>
              <a:ext cx="47005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304800">
              <a:off x="2168280" y="2329920"/>
              <a:ext cx="4044960" cy="26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3"/>
          <p:cNvSpPr/>
          <p:nvPr/>
        </p:nvSpPr>
        <p:spPr>
          <a:xfrm>
            <a:off x="1208160" y="1359000"/>
            <a:ext cx="6172200" cy="5310000"/>
          </a:xfrm>
          <a:prstGeom prst="ellipse">
            <a:avLst/>
          </a:prstGeom>
          <a:solidFill>
            <a:srgbClr val="f1afd6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1714680" y="1981080"/>
            <a:ext cx="4008240" cy="3733920"/>
          </a:xfrm>
          <a:prstGeom prst="ellipse">
            <a:avLst/>
          </a:prstGeom>
          <a:solidFill>
            <a:srgbClr val="cbeac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703600" y="1596960"/>
            <a:ext cx="1428840" cy="1327320"/>
          </a:xfrm>
          <a:prstGeom prst="ellipse">
            <a:avLst/>
          </a:prstGeom>
          <a:solidFill>
            <a:srgbClr val="39ec08">
              <a:alpha val="64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 rot="8613000">
            <a:off x="1514160" y="2771280"/>
            <a:ext cx="1468440" cy="147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 rot="20702400">
            <a:off x="2368440" y="4543200"/>
            <a:ext cx="1517760" cy="1379520"/>
          </a:xfrm>
          <a:prstGeom prst="ellipse">
            <a:avLst/>
          </a:prstGeom>
          <a:solidFill>
            <a:srgbClr val="92d050">
              <a:alpha val="45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 rot="276600">
            <a:off x="4662000" y="4080960"/>
            <a:ext cx="1420920" cy="1476360"/>
          </a:xfrm>
          <a:prstGeom prst="ellipse">
            <a:avLst/>
          </a:prstGeom>
          <a:solidFill>
            <a:srgbClr val="ff0000">
              <a:alpha val="47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2774880" y="18446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Hij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4791240" y="43527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A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Benc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2449440" y="486396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 Se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276720" y="321300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Kab/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ta 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yak 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ak (K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6357960" y="266688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ab/</a:t>
            </a:r>
            <a:r>
              <a:rPr b="1" lang="id-ID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ota Ped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1627200" y="3205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Inklu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tle 2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add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KLA Terintegrasi de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istem Kabupaten/Kota di Indonesi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AD3E-7080-46C5-B76B-2635DBE5395A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4791240" y="2192400"/>
            <a:ext cx="1428480" cy="1357200"/>
          </a:xfrm>
          <a:prstGeom prst="ellipse">
            <a:avLst/>
          </a:prstGeom>
          <a:solidFill>
            <a:srgbClr val="00b0f0">
              <a:alpha val="64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4870440" y="24796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Cer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Freeform 3"/>
          <p:cNvGrpSpPr/>
          <p:nvPr/>
        </p:nvGrpSpPr>
        <p:grpSpPr>
          <a:xfrm>
            <a:off x="570600" y="122400"/>
            <a:ext cx="7058160" cy="6518160"/>
            <a:chOff x="570600" y="122400"/>
            <a:chExt cx="7058160" cy="6518160"/>
          </a:xfrm>
        </p:grpSpPr>
        <p:pic>
          <p:nvPicPr>
            <p:cNvPr id="234" name="Freeform 3" descr=""/>
            <p:cNvPicPr/>
            <p:nvPr/>
          </p:nvPicPr>
          <p:blipFill>
            <a:blip r:embed="rId1"/>
            <a:stretch/>
          </p:blipFill>
          <p:spPr>
            <a:xfrm>
              <a:off x="1531800" y="122400"/>
              <a:ext cx="5309280" cy="61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2808800">
              <a:off x="1096920" y="1577160"/>
              <a:ext cx="600552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Oval 5"/>
          <p:cNvSpPr/>
          <p:nvPr/>
        </p:nvSpPr>
        <p:spPr>
          <a:xfrm>
            <a:off x="4562640" y="5713560"/>
            <a:ext cx="1800000" cy="1008000"/>
          </a:xfrm>
          <a:prstGeom prst="ellipse">
            <a:avLst/>
          </a:prstGeom>
          <a:gradFill rotWithShape="0">
            <a:gsLst>
              <a:gs pos="0">
                <a:srgbClr val="929c15"/>
              </a:gs>
              <a:gs pos="100000">
                <a:srgbClr val="faff2b"/>
              </a:gs>
            </a:gsLst>
            <a:lin ang="162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KELUARGA RAMAH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4114800" y="1371600"/>
            <a:ext cx="2328840" cy="1193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PROVINSI LAYAK AN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PROVIL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2590920"/>
            <a:ext cx="1944720" cy="936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KAB/KOTA LAYAK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K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324480" y="3809880"/>
            <a:ext cx="1800360" cy="79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Constantia"/>
              </a:rPr>
              <a:t>KECAMATAN LAYAK ANA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(KELAN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6362640" y="5121360"/>
            <a:ext cx="1676520" cy="720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DESA/ KE</a:t>
            </a:r>
            <a:r>
              <a:rPr b="1" lang="id-ID" sz="1200" spc="-1" strike="noStrike">
                <a:solidFill>
                  <a:srgbClr val="000000"/>
                </a:solidFill>
                <a:latin typeface="Constantia"/>
              </a:rPr>
              <a:t>LURAHAN LAYAK AN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(DEKEL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3DA0-3DB3-4DED-8ACA-2E6078543D3D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5943600" y="1294920"/>
            <a:ext cx="6858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7086600" y="2590560"/>
            <a:ext cx="11430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5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7848720" y="3657240"/>
            <a:ext cx="129528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6.7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724880" y="5041440"/>
            <a:ext cx="13716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79.0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3467160" y="5763240"/>
            <a:ext cx="1295280" cy="90828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65 J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1828800" y="4448160"/>
            <a:ext cx="1800360" cy="1008000"/>
          </a:xfrm>
          <a:prstGeom prst="ellipse">
            <a:avLst/>
          </a:prstGeom>
          <a:gradFill rotWithShape="0">
            <a:gsLst>
              <a:gs pos="0">
                <a:srgbClr val="929c15"/>
              </a:gs>
              <a:gs pos="100000">
                <a:srgbClr val="faff2b"/>
              </a:gs>
            </a:gsLst>
            <a:lin ang="162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onstantia"/>
              </a:rPr>
              <a:t>A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840" y="4270320"/>
            <a:ext cx="1295640" cy="90828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83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J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9" descr="E:\Logo KLA.jpg"/>
          <p:cNvPicPr/>
          <p:nvPr/>
        </p:nvPicPr>
        <p:blipFill>
          <a:blip r:embed="rId2"/>
          <a:stretch/>
        </p:blipFill>
        <p:spPr>
          <a:xfrm>
            <a:off x="4572000" y="2643120"/>
            <a:ext cx="1371600" cy="1225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IMG-20171212-WA0005.jpg"/>
          <p:cNvPicPr/>
          <p:nvPr/>
        </p:nvPicPr>
        <p:blipFill>
          <a:blip r:embed="rId3"/>
          <a:stretch/>
        </p:blipFill>
        <p:spPr>
          <a:xfrm>
            <a:off x="-6480" y="19080"/>
            <a:ext cx="2389320" cy="10713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0"/>
          <p:cNvSpPr/>
          <p:nvPr/>
        </p:nvSpPr>
        <p:spPr>
          <a:xfrm>
            <a:off x="331920" y="85392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ahoma"/>
                <a:ea typeface="Tahoma"/>
              </a:rPr>
              <a:t>20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990720" y="44280"/>
            <a:ext cx="795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TARGET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Implementasi 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g-NG" sz="4500" spc="-1" strike="noStrike">
                <a:solidFill>
                  <a:srgbClr val="ff33cc"/>
                </a:solidFill>
                <a:latin typeface="Tahoma"/>
                <a:ea typeface="Tahoma"/>
              </a:rPr>
              <a:t>SIAPA yang berperan mewujudkan KLA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5600" y="2000160"/>
            <a:ext cx="75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Lembaga Legislatif: nasional dan daer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Lembaga Yudikatif: nasional dan daer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Pemerint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pusat/nasion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provins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abupaten/kota </a:t>
            </a:r>
            <a:r>
              <a:rPr b="0" lang="ig-NG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batas terendah desentralisas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ecamat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desa/kelura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Dunia usah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Akademisi/ Sekol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Masyaraka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individu: anak dan orang dewas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eluarg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1500120"/>
            <a:ext cx="9000720" cy="5214960"/>
            <a:chOff x="0" y="1500120"/>
            <a:chExt cx="9000720" cy="5214960"/>
          </a:xfrm>
        </p:grpSpPr>
        <p:sp>
          <p:nvSpPr>
            <p:cNvPr id="257" name="Oval 3"/>
            <p:cNvSpPr/>
            <p:nvPr/>
          </p:nvSpPr>
          <p:spPr>
            <a:xfrm>
              <a:off x="922680" y="1500120"/>
              <a:ext cx="8078040" cy="521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4"/>
            <p:cNvSpPr/>
            <p:nvPr/>
          </p:nvSpPr>
          <p:spPr>
            <a:xfrm>
              <a:off x="922680" y="1947240"/>
              <a:ext cx="6549480" cy="4276800"/>
            </a:xfrm>
            <a:prstGeom prst="ellipse">
              <a:avLst/>
            </a:prstGeom>
            <a:solidFill>
              <a:srgbClr val="b2a1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922680" y="2263680"/>
              <a:ext cx="5212440" cy="3619440"/>
            </a:xfrm>
            <a:prstGeom prst="ellipse">
              <a:avLst/>
            </a:prstGeom>
            <a:solidFill>
              <a:srgbClr val="fa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922680" y="2642400"/>
              <a:ext cx="4292280" cy="29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922680" y="3014280"/>
              <a:ext cx="3179520" cy="2283840"/>
            </a:xfrm>
            <a:prstGeom prst="ellipse">
              <a:avLst/>
            </a:prstGeom>
            <a:solidFill>
              <a:srgbClr val="ff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922680" y="3230640"/>
              <a:ext cx="2319840" cy="1872360"/>
            </a:xfrm>
            <a:prstGeom prst="ellipse">
              <a:avLst/>
            </a:prstGeom>
            <a:solidFill>
              <a:srgbClr val="ccff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922680" y="3480840"/>
              <a:ext cx="1499760" cy="1476360"/>
            </a:xfrm>
            <a:prstGeom prst="ellipse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922680" y="3600000"/>
              <a:ext cx="1016640" cy="1246680"/>
            </a:xfrm>
            <a:prstGeom prst="ellipse">
              <a:avLst/>
            </a:pr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922680" y="3814200"/>
              <a:ext cx="452520" cy="849960"/>
            </a:xfrm>
            <a:prstGeom prst="ellipse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0" y="4072320"/>
              <a:ext cx="8575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Baskerville Old Face"/>
                </a:rPr>
                <a:t>Ana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1414800" y="3729960"/>
              <a:ext cx="299520" cy="98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Baskerville Old Face"/>
                </a:rPr>
                <a:t>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Baskerville Old Face"/>
                </a:rPr>
                <a:t>L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492280" y="3797280"/>
              <a:ext cx="654120" cy="71676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Arial Narrow"/>
                </a:rPr>
                <a:t>De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r>
                <a:rPr b="1" lang="id-ID" sz="1800" spc="-1" strike="noStrike">
                  <a:solidFill>
                    <a:srgbClr val="000000"/>
                  </a:solidFill>
                  <a:latin typeface="Arial Narrow"/>
                </a:rPr>
                <a:t>K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7595640" y="3811320"/>
              <a:ext cx="1241280" cy="61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400" spc="-1" strike="noStrike">
                  <a:solidFill>
                    <a:srgbClr val="000000"/>
                  </a:solidFill>
                  <a:latin typeface="Broadway"/>
                </a:rPr>
                <a:t>DUN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6247800" y="3725640"/>
              <a:ext cx="1177920" cy="617040"/>
            </a:xfrm>
            <a:prstGeom prst="rect">
              <a:avLst/>
            </a:prstGeom>
            <a:solidFill>
              <a:srgbClr val="b2a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</a:rPr>
                <a:t>IN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143600" y="3714840"/>
              <a:ext cx="856440" cy="79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Baskerville Old Face"/>
                </a:rPr>
                <a:t>Kab/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Baskerville Old Face"/>
                </a:rPr>
                <a:t>Ko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3286440" y="3786480"/>
              <a:ext cx="713880" cy="570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Baskerville Old Face"/>
                </a:rPr>
                <a:t>Ke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>
              <a:off x="5285880" y="3857760"/>
              <a:ext cx="731880" cy="439560"/>
            </a:xfrm>
            <a:prstGeom prst="rect">
              <a:avLst/>
            </a:prstGeom>
            <a:solidFill>
              <a:srgbClr val="fa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Baskerville Old Face"/>
                </a:rPr>
                <a:t>Pro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4" name="AutoShape 20"/>
            <p:cNvCxnSpPr/>
            <p:nvPr/>
          </p:nvCxnSpPr>
          <p:spPr>
            <a:xfrm flipV="1">
              <a:off x="956160" y="4213440"/>
              <a:ext cx="198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Text Box 21"/>
            <p:cNvSpPr/>
            <p:nvPr/>
          </p:nvSpPr>
          <p:spPr>
            <a:xfrm>
              <a:off x="1939320" y="3797280"/>
              <a:ext cx="354240" cy="732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Baskerville Old Face"/>
                </a:rPr>
                <a:t>RT</a:t>
              </a:r>
              <a:r>
                <a:rPr b="1" lang="en-US" sz="1200" spc="-1" strike="noStrike">
                  <a:solidFill>
                    <a:srgbClr val="000000"/>
                  </a:solidFill>
                  <a:latin typeface="Baskerville Old Face"/>
                </a:rPr>
                <a:t>/ R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5000" spc="-1" strike="noStrike">
                <a:solidFill>
                  <a:srgbClr val="00b050"/>
                </a:solidFill>
                <a:latin typeface="Tahoma"/>
                <a:ea typeface="Tahoma"/>
              </a:rPr>
              <a:t>“</a:t>
            </a:r>
            <a:r>
              <a:rPr b="1" lang="ig-NG" sz="5000" spc="-1" strike="noStrike">
                <a:solidFill>
                  <a:srgbClr val="00b050"/>
                </a:solidFill>
                <a:latin typeface="Tahoma"/>
                <a:ea typeface="Tahoma"/>
              </a:rPr>
              <a:t>KLA”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828800" y="1143000"/>
            <a:ext cx="762120" cy="665280"/>
            <a:chOff x="1828800" y="1143000"/>
            <a:chExt cx="762120" cy="665280"/>
          </a:xfrm>
        </p:grpSpPr>
        <p:sp>
          <p:nvSpPr>
            <p:cNvPr id="107" name="AutoShape 4"/>
            <p:cNvSpPr/>
            <p:nvPr/>
          </p:nvSpPr>
          <p:spPr>
            <a:xfrm>
              <a:off x="1834920" y="11541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1828800" y="1143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73080" y="11826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14300"/>
                </a:gs>
                <a:gs pos="100000">
                  <a:srgbClr val="f491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7"/>
          <p:cNvGrpSpPr/>
          <p:nvPr/>
        </p:nvGrpSpPr>
        <p:grpSpPr>
          <a:xfrm>
            <a:off x="1828800" y="2057400"/>
            <a:ext cx="761760" cy="665280"/>
            <a:chOff x="1828800" y="2057400"/>
            <a:chExt cx="761760" cy="665280"/>
          </a:xfrm>
        </p:grpSpPr>
        <p:sp>
          <p:nvSpPr>
            <p:cNvPr id="111" name="AutoShape 8"/>
            <p:cNvSpPr/>
            <p:nvPr/>
          </p:nvSpPr>
          <p:spPr>
            <a:xfrm>
              <a:off x="1834920" y="20685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1828800" y="20574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873080" y="20970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Line 11"/>
          <p:cNvSpPr/>
          <p:nvPr/>
        </p:nvSpPr>
        <p:spPr>
          <a:xfrm>
            <a:off x="2438280" y="175248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027520" y="124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2438280" y="266688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02752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Group 17" descr=""/>
          <p:cNvPicPr/>
          <p:nvPr/>
        </p:nvPicPr>
        <p:blipFill>
          <a:blip r:embed="rId2"/>
          <a:stretch/>
        </p:blipFill>
        <p:spPr>
          <a:xfrm>
            <a:off x="1816200" y="2938320"/>
            <a:ext cx="780840" cy="682920"/>
          </a:xfrm>
          <a:prstGeom prst="rect">
            <a:avLst/>
          </a:prstGeom>
          <a:ln w="0">
            <a:noFill/>
          </a:ln>
        </p:spPr>
      </p:pic>
      <p:pic>
        <p:nvPicPr>
          <p:cNvPr id="119" name="Group 21" descr=""/>
          <p:cNvPicPr/>
          <p:nvPr/>
        </p:nvPicPr>
        <p:blipFill>
          <a:blip r:embed="rId3"/>
          <a:stretch/>
        </p:blipFill>
        <p:spPr>
          <a:xfrm>
            <a:off x="1816200" y="3852720"/>
            <a:ext cx="780840" cy="682920"/>
          </a:xfrm>
          <a:prstGeom prst="rect">
            <a:avLst/>
          </a:prstGeom>
          <a:ln w="0">
            <a:noFill/>
          </a:ln>
        </p:spPr>
      </p:pic>
      <p:sp>
        <p:nvSpPr>
          <p:cNvPr id="120" name="Line 25"/>
          <p:cNvSpPr/>
          <p:nvPr/>
        </p:nvSpPr>
        <p:spPr>
          <a:xfrm>
            <a:off x="2438280" y="35593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44737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805040" y="4764240"/>
            <a:ext cx="761760" cy="664920"/>
            <a:chOff x="1805040" y="4764240"/>
            <a:chExt cx="761760" cy="664920"/>
          </a:xfrm>
        </p:grpSpPr>
        <p:grpSp>
          <p:nvGrpSpPr>
            <p:cNvPr id="126" name="AutoShape 22"/>
            <p:cNvGrpSpPr/>
            <p:nvPr/>
          </p:nvGrpSpPr>
          <p:grpSpPr>
            <a:xfrm>
              <a:off x="1810080" y="4768920"/>
              <a:ext cx="756720" cy="660240"/>
              <a:chOff x="1810080" y="4768920"/>
              <a:chExt cx="756720" cy="660240"/>
            </a:xfrm>
          </p:grpSpPr>
          <p:pic>
            <p:nvPicPr>
              <p:cNvPr id="127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10080" y="4768920"/>
                <a:ext cx="756720" cy="66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977840" y="4890240"/>
                <a:ext cx="4222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AutoShape 23"/>
            <p:cNvGrpSpPr/>
            <p:nvPr/>
          </p:nvGrpSpPr>
          <p:grpSpPr>
            <a:xfrm>
              <a:off x="1805040" y="4764240"/>
              <a:ext cx="756720" cy="655200"/>
              <a:chOff x="1805040" y="4764240"/>
              <a:chExt cx="756720" cy="655200"/>
            </a:xfrm>
          </p:grpSpPr>
          <p:pic>
            <p:nvPicPr>
              <p:cNvPr id="130" name="AutoShape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805040" y="4764240"/>
                <a:ext cx="75672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972440" y="4881240"/>
                <a:ext cx="4222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AutoShape 24"/>
            <p:cNvGrpSpPr/>
            <p:nvPr/>
          </p:nvGrpSpPr>
          <p:grpSpPr>
            <a:xfrm>
              <a:off x="1840680" y="4794120"/>
              <a:ext cx="680040" cy="590040"/>
              <a:chOff x="1840680" y="4794120"/>
              <a:chExt cx="680040" cy="590040"/>
            </a:xfrm>
          </p:grpSpPr>
          <p:pic>
            <p:nvPicPr>
              <p:cNvPr id="133" name="AutoShape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1840680" y="4794120"/>
                <a:ext cx="680040" cy="59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996560" y="4902840"/>
                <a:ext cx="3711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Line 28"/>
          <p:cNvSpPr/>
          <p:nvPr/>
        </p:nvSpPr>
        <p:spPr>
          <a:xfrm>
            <a:off x="2414520" y="53737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004480" y="48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roup 21" descr=""/>
          <p:cNvPicPr/>
          <p:nvPr/>
        </p:nvPicPr>
        <p:blipFill>
          <a:blip r:embed="rId7"/>
          <a:stretch/>
        </p:blipFill>
        <p:spPr>
          <a:xfrm>
            <a:off x="1712880" y="5510160"/>
            <a:ext cx="907920" cy="817560"/>
          </a:xfrm>
          <a:prstGeom prst="rect">
            <a:avLst/>
          </a:prstGeom>
          <a:ln w="0">
            <a:noFill/>
          </a:ln>
        </p:spPr>
      </p:pic>
      <p:sp>
        <p:nvSpPr>
          <p:cNvPr id="138" name="Line 28"/>
          <p:cNvSpPr/>
          <p:nvPr/>
        </p:nvSpPr>
        <p:spPr>
          <a:xfrm>
            <a:off x="2395440" y="615960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985760" y="5648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1"/>
          <p:cNvSpPr/>
          <p:nvPr/>
        </p:nvSpPr>
        <p:spPr>
          <a:xfrm>
            <a:off x="3071880" y="128592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AP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200" spc="-1" strike="noStrike">
                <a:solidFill>
                  <a:srgbClr val="ff33cc"/>
                </a:solidFill>
                <a:latin typeface="Tahoma"/>
                <a:ea typeface="Tahoma"/>
              </a:rPr>
              <a:t>KABUPATEN/KOTA 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TextBox 51"/>
          <p:cNvSpPr/>
          <p:nvPr/>
        </p:nvSpPr>
        <p:spPr>
          <a:xfrm>
            <a:off x="3071880" y="21430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MENGAP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3071880" y="300024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DIMAN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51"/>
          <p:cNvSpPr/>
          <p:nvPr/>
        </p:nvSpPr>
        <p:spPr>
          <a:xfrm>
            <a:off x="3071880" y="392904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KAPA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1"/>
          <p:cNvSpPr/>
          <p:nvPr/>
        </p:nvSpPr>
        <p:spPr>
          <a:xfrm>
            <a:off x="3071880" y="478620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SIAPA melakukan ap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1"/>
          <p:cNvSpPr/>
          <p:nvPr/>
        </p:nvSpPr>
        <p:spPr>
          <a:xfrm>
            <a:off x="3071880" y="55720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BAGAIMAN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496-44B8-4123-BFC3-67523D3D8500}" type="slidenum">
              <a:rPr b="0" lang="id-ID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40"/>
          <p:cNvGrpSpPr/>
          <p:nvPr/>
        </p:nvGrpSpPr>
        <p:grpSpPr>
          <a:xfrm>
            <a:off x="71280" y="0"/>
            <a:ext cx="9001440" cy="6858000"/>
            <a:chOff x="71280" y="0"/>
            <a:chExt cx="9001440" cy="6858000"/>
          </a:xfrm>
        </p:grpSpPr>
        <p:sp>
          <p:nvSpPr>
            <p:cNvPr id="279" name="Text Box 38"/>
            <p:cNvSpPr/>
            <p:nvPr/>
          </p:nvSpPr>
          <p:spPr>
            <a:xfrm>
              <a:off x="3600360" y="0"/>
              <a:ext cx="2536920" cy="3790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Dunia Layak Anak (</a:t>
              </a:r>
              <a:r>
                <a:rPr b="1" i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World Fit for Children</a:t>
              </a: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9"/>
            <p:cNvSpPr/>
            <p:nvPr/>
          </p:nvSpPr>
          <p:spPr>
            <a:xfrm>
              <a:off x="3601800" y="685800"/>
              <a:ext cx="25383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Indonesia Layak Anak (IDOL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40"/>
            <p:cNvSpPr/>
            <p:nvPr/>
          </p:nvSpPr>
          <p:spPr>
            <a:xfrm>
              <a:off x="3504960" y="1371600"/>
              <a:ext cx="2722680" cy="37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abupaten/Kota Layak Anak (KLA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AutoShape 41"/>
            <p:cNvSpPr/>
            <p:nvPr/>
          </p:nvSpPr>
          <p:spPr>
            <a:xfrm>
              <a:off x="4729320" y="430200"/>
              <a:ext cx="276120" cy="255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AutoShape 42"/>
            <p:cNvSpPr/>
            <p:nvPr/>
          </p:nvSpPr>
          <p:spPr>
            <a:xfrm>
              <a:off x="4729320" y="1112760"/>
              <a:ext cx="276120" cy="257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43"/>
            <p:cNvSpPr/>
            <p:nvPr/>
          </p:nvSpPr>
          <p:spPr>
            <a:xfrm>
              <a:off x="568080" y="2070000"/>
              <a:ext cx="8137800" cy="18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44"/>
            <p:cNvSpPr/>
            <p:nvPr/>
          </p:nvSpPr>
          <p:spPr>
            <a:xfrm>
              <a:off x="6256440" y="2316240"/>
              <a:ext cx="50616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AB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45"/>
            <p:cNvSpPr/>
            <p:nvPr/>
          </p:nvSpPr>
          <p:spPr>
            <a:xfrm>
              <a:off x="6762960" y="2316240"/>
              <a:ext cx="52524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MS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46"/>
            <p:cNvSpPr/>
            <p:nvPr/>
          </p:nvSpPr>
          <p:spPr>
            <a:xfrm>
              <a:off x="7288560" y="2316240"/>
              <a:ext cx="450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AB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47"/>
            <p:cNvSpPr/>
            <p:nvPr/>
          </p:nvSpPr>
          <p:spPr>
            <a:xfrm>
              <a:off x="7739280" y="2316240"/>
              <a:ext cx="44280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KT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48"/>
            <p:cNvSpPr/>
            <p:nvPr/>
          </p:nvSpPr>
          <p:spPr>
            <a:xfrm>
              <a:off x="8182080" y="2316240"/>
              <a:ext cx="477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H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49"/>
            <p:cNvSpPr/>
            <p:nvPr/>
          </p:nvSpPr>
          <p:spPr>
            <a:xfrm>
              <a:off x="633240" y="2316240"/>
              <a:ext cx="855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endidik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434960" y="2316240"/>
              <a:ext cx="855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Kesehat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2236680" y="2316240"/>
              <a:ext cx="86364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artisip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52"/>
            <p:cNvSpPr/>
            <p:nvPr/>
          </p:nvSpPr>
          <p:spPr>
            <a:xfrm>
              <a:off x="3039840" y="2316240"/>
              <a:ext cx="95400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Lingkungan &amp;  PNN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AutoShape 53" descr=""/>
            <p:cNvPicPr/>
            <p:nvPr/>
          </p:nvPicPr>
          <p:blipFill>
            <a:blip r:embed="rId1"/>
            <a:stretch/>
          </p:blipFill>
          <p:spPr>
            <a:xfrm>
              <a:off x="2029680" y="2779920"/>
              <a:ext cx="14616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AutoShape 54" descr=""/>
            <p:cNvPicPr/>
            <p:nvPr/>
          </p:nvPicPr>
          <p:blipFill>
            <a:blip r:embed="rId2"/>
            <a:stretch/>
          </p:blipFill>
          <p:spPr>
            <a:xfrm>
              <a:off x="6553440" y="2779920"/>
              <a:ext cx="14616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AutoShape 55" descr=""/>
            <p:cNvPicPr/>
            <p:nvPr/>
          </p:nvPicPr>
          <p:blipFill>
            <a:blip r:embed="rId3"/>
            <a:stretch/>
          </p:blipFill>
          <p:spPr>
            <a:xfrm>
              <a:off x="2340720" y="2919960"/>
              <a:ext cx="46515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56"/>
            <p:cNvSpPr/>
            <p:nvPr/>
          </p:nvSpPr>
          <p:spPr>
            <a:xfrm>
              <a:off x="3276360" y="3236760"/>
              <a:ext cx="2971800" cy="368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2160" indent="-92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1510"/>
                  </a:solidFill>
                  <a:latin typeface="Times New Roman"/>
                </a:rPr>
                <a:t>5  KLUSTER  HAK  AN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57"/>
            <p:cNvSpPr/>
            <p:nvPr/>
          </p:nvSpPr>
          <p:spPr>
            <a:xfrm>
              <a:off x="4729320" y="1765080"/>
              <a:ext cx="276120" cy="257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58"/>
            <p:cNvSpPr/>
            <p:nvPr/>
          </p:nvSpPr>
          <p:spPr>
            <a:xfrm>
              <a:off x="71280" y="424980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Masyarak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59"/>
            <p:cNvSpPr/>
            <p:nvPr/>
          </p:nvSpPr>
          <p:spPr>
            <a:xfrm>
              <a:off x="5880240" y="470232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Lembaga Yudik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60"/>
            <p:cNvSpPr/>
            <p:nvPr/>
          </p:nvSpPr>
          <p:spPr>
            <a:xfrm>
              <a:off x="1812600" y="470232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Lembaga Legisl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61"/>
            <p:cNvSpPr/>
            <p:nvPr/>
          </p:nvSpPr>
          <p:spPr>
            <a:xfrm>
              <a:off x="7517160" y="424980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Dunia Usah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62"/>
            <p:cNvSpPr/>
            <p:nvPr/>
          </p:nvSpPr>
          <p:spPr>
            <a:xfrm>
              <a:off x="3500280" y="5008680"/>
              <a:ext cx="2398680" cy="61416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Pemerintah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/L, SKPD Prov, SKPD Kab/Kot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63"/>
            <p:cNvSpPr/>
            <p:nvPr/>
          </p:nvSpPr>
          <p:spPr>
            <a:xfrm>
              <a:off x="3900600" y="5864400"/>
              <a:ext cx="139860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ELUARG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4"/>
            <p:cNvSpPr/>
            <p:nvPr/>
          </p:nvSpPr>
          <p:spPr>
            <a:xfrm>
              <a:off x="4140000" y="6478920"/>
              <a:ext cx="1003320" cy="3790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65"/>
            <p:cNvSpPr/>
            <p:nvPr/>
          </p:nvSpPr>
          <p:spPr>
            <a:xfrm rot="2106600">
              <a:off x="1552320" y="3706560"/>
              <a:ext cx="285480" cy="780840"/>
            </a:xfrm>
            <a:prstGeom prst="upArrow">
              <a:avLst>
                <a:gd name="adj1" fmla="val 50000"/>
                <a:gd name="adj2" fmla="val 6870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66"/>
            <p:cNvSpPr/>
            <p:nvPr/>
          </p:nvSpPr>
          <p:spPr>
            <a:xfrm rot="1854600">
              <a:off x="2630520" y="3943440"/>
              <a:ext cx="285480" cy="782640"/>
            </a:xfrm>
            <a:prstGeom prst="upArrow">
              <a:avLst>
                <a:gd name="adj1" fmla="val 50000"/>
                <a:gd name="adj2" fmla="val 6872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AutoShape 67"/>
            <p:cNvSpPr/>
            <p:nvPr/>
          </p:nvSpPr>
          <p:spPr>
            <a:xfrm rot="18979800">
              <a:off x="7232760" y="3706560"/>
              <a:ext cx="285480" cy="780840"/>
            </a:xfrm>
            <a:prstGeom prst="upArrow">
              <a:avLst>
                <a:gd name="adj1" fmla="val 50000"/>
                <a:gd name="adj2" fmla="val 6870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68"/>
            <p:cNvSpPr/>
            <p:nvPr/>
          </p:nvSpPr>
          <p:spPr>
            <a:xfrm rot="19327200">
              <a:off x="6284520" y="3943080"/>
              <a:ext cx="285480" cy="782640"/>
            </a:xfrm>
            <a:prstGeom prst="upArrow">
              <a:avLst>
                <a:gd name="adj1" fmla="val 50000"/>
                <a:gd name="adj2" fmla="val 6872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69"/>
            <p:cNvSpPr/>
            <p:nvPr/>
          </p:nvSpPr>
          <p:spPr>
            <a:xfrm>
              <a:off x="4462560" y="3960720"/>
              <a:ext cx="339480" cy="1003320"/>
            </a:xfrm>
            <a:prstGeom prst="upDownArrow">
              <a:avLst>
                <a:gd name="adj1" fmla="val 50000"/>
                <a:gd name="adj2" fmla="val 48628"/>
              </a:avLst>
            </a:prstGeom>
            <a:solidFill>
              <a:srgbClr val="cccc0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70"/>
            <p:cNvSpPr/>
            <p:nvPr/>
          </p:nvSpPr>
          <p:spPr>
            <a:xfrm>
              <a:off x="4535640" y="5623200"/>
              <a:ext cx="193680" cy="242640"/>
            </a:xfrm>
            <a:prstGeom prst="upDownArrow">
              <a:avLst>
                <a:gd name="adj1" fmla="val 50000"/>
                <a:gd name="adj2" fmla="val 2496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71"/>
            <p:cNvSpPr/>
            <p:nvPr/>
          </p:nvSpPr>
          <p:spPr>
            <a:xfrm>
              <a:off x="4535640" y="6245280"/>
              <a:ext cx="193680" cy="239400"/>
            </a:xfrm>
            <a:prstGeom prst="upDownArrow">
              <a:avLst>
                <a:gd name="adj1" fmla="val 50000"/>
                <a:gd name="adj2" fmla="val 2496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1143000" y="1905120"/>
            <a:ext cx="2362320" cy="30456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1510"/>
                </a:solidFill>
                <a:latin typeface="Calibri"/>
                <a:ea typeface="Arial"/>
              </a:rPr>
              <a:t>TUMBUH KEMBANG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0"/>
          <p:cNvSpPr/>
          <p:nvPr/>
        </p:nvSpPr>
        <p:spPr>
          <a:xfrm>
            <a:off x="6400800" y="1905120"/>
            <a:ext cx="2057400" cy="30456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1510"/>
                </a:solidFill>
                <a:latin typeface="Calibri"/>
                <a:ea typeface="Arial"/>
              </a:rPr>
              <a:t>PERLINDUNGAN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52"/>
          <p:cNvSpPr/>
          <p:nvPr/>
        </p:nvSpPr>
        <p:spPr>
          <a:xfrm>
            <a:off x="4379760" y="2286000"/>
            <a:ext cx="954360" cy="492120"/>
          </a:xfrm>
          <a:prstGeom prst="rect">
            <a:avLst/>
          </a:prstGeom>
          <a:solidFill>
            <a:srgbClr val="6bdbfa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21510"/>
                </a:solidFill>
                <a:latin typeface="Calibri"/>
              </a:rPr>
              <a:t>PTPP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9"/>
          <p:cNvSpPr/>
          <p:nvPr/>
        </p:nvSpPr>
        <p:spPr>
          <a:xfrm>
            <a:off x="7010280" y="5562720"/>
            <a:ext cx="1981440" cy="1143000"/>
          </a:xfrm>
          <a:prstGeom prst="rect">
            <a:avLst/>
          </a:prstGeom>
          <a:solidFill>
            <a:srgbClr val="6bdbfa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21510"/>
                </a:solidFill>
                <a:latin typeface="Calibri"/>
                <a:ea typeface="Arial"/>
              </a:rPr>
              <a:t>PNNL: Penanaman Nilai-Nilai Luhu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21510"/>
                </a:solidFill>
                <a:latin typeface="Calibri"/>
                <a:ea typeface="Arial"/>
              </a:rPr>
              <a:t>PTPPO: Penanganan Tindak Pidana Perdagangan Ora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ABH:anak berhadapan huku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MSA: masalah sosial ana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ABK: anak berkebutuhan khusu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KTA: kekerasan terhadap ana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PHS: pemenuhan hak sip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lowchart: Alternate Process 3"/>
          <p:cNvSpPr/>
          <p:nvPr/>
        </p:nvSpPr>
        <p:spPr>
          <a:xfrm>
            <a:off x="685800" y="95400"/>
            <a:ext cx="7924680" cy="914400"/>
          </a:xfrm>
          <a:prstGeom prst="flowChartAlternateProcess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Arial"/>
              </a:rPr>
              <a:t>5 KLASTER</a:t>
            </a:r>
            <a:r>
              <a:rPr b="1" lang="id-ID" sz="3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Arial"/>
              </a:rPr>
              <a:t>KONVENSI </a:t>
            </a:r>
            <a:r>
              <a:rPr b="1" lang="id-ID" sz="3400" spc="-1" strike="noStrike">
                <a:solidFill>
                  <a:srgbClr val="ffffff"/>
                </a:solidFill>
                <a:latin typeface="Calibri"/>
                <a:ea typeface="Arial"/>
              </a:rPr>
              <a:t>HAK ANA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Calibri"/>
                <a:ea typeface="Arial"/>
              </a:rPr>
              <a:t>di Era Otda Diwujudkan dalam “KL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739800" y="1236600"/>
            <a:ext cx="8327880" cy="4757760"/>
            <a:chOff x="739800" y="1236600"/>
            <a:chExt cx="8327880" cy="4757760"/>
          </a:xfrm>
        </p:grpSpPr>
        <p:sp>
          <p:nvSpPr>
            <p:cNvPr id="319" name="Pentagon 4"/>
            <p:cNvSpPr/>
            <p:nvPr/>
          </p:nvSpPr>
          <p:spPr>
            <a:xfrm>
              <a:off x="739800" y="1236600"/>
              <a:ext cx="3267000" cy="89208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81" y="0"/>
                  </a:lnTo>
                  <a:lnTo>
                    <a:pt x="21600" y="10800"/>
                  </a:lnTo>
                  <a:lnTo>
                    <a:pt x="18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dd9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K SIPIL DAN KEBEBAS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Pentagon 5"/>
            <p:cNvSpPr/>
            <p:nvPr/>
          </p:nvSpPr>
          <p:spPr>
            <a:xfrm>
              <a:off x="765000" y="2203200"/>
              <a:ext cx="3235320" cy="89208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52" y="0"/>
                  </a:lnTo>
                  <a:lnTo>
                    <a:pt x="21600" y="10800"/>
                  </a:lnTo>
                  <a:lnTo>
                    <a:pt x="186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0fa94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NGKUNGAN KELUARGA DAN PENGASUHAN ALTERNAT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entagon 6"/>
            <p:cNvSpPr/>
            <p:nvPr/>
          </p:nvSpPr>
          <p:spPr>
            <a:xfrm>
              <a:off x="769680" y="3168720"/>
              <a:ext cx="3230640" cy="89208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48" y="0"/>
                  </a:lnTo>
                  <a:lnTo>
                    <a:pt x="21600" y="10800"/>
                  </a:lnTo>
                  <a:lnTo>
                    <a:pt x="186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SEHATAN </a:t>
              </a: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ASAR </a:t>
              </a: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AN KESEJAHTERA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entagon 7"/>
            <p:cNvSpPr/>
            <p:nvPr/>
          </p:nvSpPr>
          <p:spPr>
            <a:xfrm>
              <a:off x="769680" y="4135320"/>
              <a:ext cx="3230640" cy="89208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48" y="0"/>
                  </a:lnTo>
                  <a:lnTo>
                    <a:pt x="21600" y="10800"/>
                  </a:lnTo>
                  <a:lnTo>
                    <a:pt x="186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DIDIKAN, PEMANFAATAN WAKTU LUANG, DAN KEGIATAN BUDAY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Pentagon 8"/>
            <p:cNvSpPr/>
            <p:nvPr/>
          </p:nvSpPr>
          <p:spPr>
            <a:xfrm>
              <a:off x="744480" y="5102280"/>
              <a:ext cx="3255840" cy="892080"/>
            </a:xfrm>
            <a:custGeom>
              <a:avLst/>
              <a:gdLst>
                <a:gd name="textAreaLeft" fmla="*/ 0 w 3255840"/>
                <a:gd name="textAreaRight" fmla="*/ 3256200 w 32558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71" y="0"/>
                  </a:lnTo>
                  <a:lnTo>
                    <a:pt x="21600" y="10800"/>
                  </a:lnTo>
                  <a:lnTo>
                    <a:pt x="1867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6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LINDUNGAN KHUSU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ight Brace 1"/>
            <p:cNvSpPr/>
            <p:nvPr/>
          </p:nvSpPr>
          <p:spPr>
            <a:xfrm>
              <a:off x="4081320" y="1682640"/>
              <a:ext cx="261720" cy="2898720"/>
            </a:xfrm>
            <a:custGeom>
              <a:avLst/>
              <a:gdLst>
                <a:gd name="textAreaLeft" fmla="*/ 0 w 261720"/>
                <a:gd name="textAreaRight" fmla="*/ 94320 w 261720"/>
                <a:gd name="textAreaTop" fmla="*/ 6840 h 2898720"/>
                <a:gd name="textAreaBottom" fmla="*/ 2891880 h 28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2"/>
                    <a:pt x="10800" y="164"/>
                  </a:cubicBezTo>
                  <a:lnTo>
                    <a:pt x="10800" y="10530"/>
                  </a:lnTo>
                  <a:cubicBezTo>
                    <a:pt x="10800" y="10612"/>
                    <a:pt x="16200" y="10694"/>
                    <a:pt x="21600" y="10694"/>
                  </a:cubicBezTo>
                  <a:cubicBezTo>
                    <a:pt x="16200" y="10694"/>
                    <a:pt x="10800" y="10776"/>
                    <a:pt x="10800" y="10858"/>
                  </a:cubicBezTo>
                  <a:lnTo>
                    <a:pt x="10800" y="21436"/>
                  </a:lnTo>
                  <a:cubicBezTo>
                    <a:pt x="10800" y="21518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4417920" y="2666880"/>
              <a:ext cx="1914480" cy="892080"/>
            </a:xfrm>
            <a:prstGeom prst="rect">
              <a:avLst/>
            </a:prstGeom>
            <a:solidFill>
              <a:srgbClr val="cc99ff">
                <a:alpha val="72000"/>
              </a:srgbClr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menuhan Hak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4417920" y="5050080"/>
              <a:ext cx="1914480" cy="892080"/>
            </a:xfrm>
            <a:prstGeom prst="rect">
              <a:avLst/>
            </a:prstGeom>
            <a:solidFill>
              <a:srgbClr val="00b050">
                <a:alpha val="72000"/>
              </a:srgbClr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rlindungan Khusus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ight Arrow 2"/>
            <p:cNvSpPr/>
            <p:nvPr/>
          </p:nvSpPr>
          <p:spPr>
            <a:xfrm>
              <a:off x="4081320" y="5504040"/>
              <a:ext cx="261720" cy="118800"/>
            </a:xfrm>
            <a:prstGeom prst="rightArrow">
              <a:avLst>
                <a:gd name="adj1" fmla="val 50000"/>
                <a:gd name="adj2" fmla="val 49558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ight Brace 12"/>
            <p:cNvSpPr/>
            <p:nvPr/>
          </p:nvSpPr>
          <p:spPr>
            <a:xfrm>
              <a:off x="6391440" y="3095640"/>
              <a:ext cx="237960" cy="2408400"/>
            </a:xfrm>
            <a:custGeom>
              <a:avLst/>
              <a:gdLst>
                <a:gd name="textAreaLeft" fmla="*/ 0 w 237960"/>
                <a:gd name="textAreaRight" fmla="*/ 86040 w 237960"/>
                <a:gd name="textAreaTop" fmla="*/ 6120 h 2408400"/>
                <a:gd name="textAreaBottom" fmla="*/ 2402280 h 240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"/>
                    <a:pt x="10800" y="180"/>
                  </a:cubicBezTo>
                  <a:lnTo>
                    <a:pt x="10800" y="10514"/>
                  </a:lnTo>
                  <a:cubicBezTo>
                    <a:pt x="10800" y="10604"/>
                    <a:pt x="16200" y="10694"/>
                    <a:pt x="21600" y="10694"/>
                  </a:cubicBezTo>
                  <a:cubicBezTo>
                    <a:pt x="16200" y="10694"/>
                    <a:pt x="10800" y="10784"/>
                    <a:pt x="10800" y="10874"/>
                  </a:cubicBezTo>
                  <a:lnTo>
                    <a:pt x="10800" y="21420"/>
                  </a:lnTo>
                  <a:cubicBezTo>
                    <a:pt x="10800" y="2151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6710400" y="3589200"/>
              <a:ext cx="2357280" cy="892080"/>
            </a:xfrm>
            <a:prstGeom prst="rect">
              <a:avLst/>
            </a:prstGeom>
            <a:solidFill>
              <a:srgbClr val="dbe7b6">
                <a:alpha val="72000"/>
              </a:srgbClr>
            </a:solidFill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RLINDUNGAN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Down Arrow 9"/>
          <p:cNvSpPr/>
          <p:nvPr/>
        </p:nvSpPr>
        <p:spPr>
          <a:xfrm>
            <a:off x="7620120" y="4564080"/>
            <a:ext cx="380880" cy="30780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9dd9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lowchart: Alternate Process 17"/>
          <p:cNvSpPr/>
          <p:nvPr/>
        </p:nvSpPr>
        <p:spPr>
          <a:xfrm>
            <a:off x="7183440" y="4929120"/>
            <a:ext cx="1295280" cy="693720"/>
          </a:xfrm>
          <a:prstGeom prst="flowChartAlternateProcess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  <a:ea typeface="Arial"/>
              </a:rPr>
              <a:t>K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lide Number Placeholder 1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DAF9-ADA7-47CC-A140-AFB40F4948BF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lowchart: Alternate Process 18"/>
          <p:cNvSpPr/>
          <p:nvPr/>
        </p:nvSpPr>
        <p:spPr>
          <a:xfrm>
            <a:off x="7202520" y="5681520"/>
            <a:ext cx="1295280" cy="443160"/>
          </a:xfrm>
          <a:prstGeom prst="flowChartAlternateProcess">
            <a:avLst/>
          </a:prstGeom>
          <a:solidFill>
            <a:srgbClr val="94f7d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KEL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lowchart: Alternate Process 19"/>
          <p:cNvSpPr/>
          <p:nvPr/>
        </p:nvSpPr>
        <p:spPr>
          <a:xfrm>
            <a:off x="7211880" y="6191280"/>
            <a:ext cx="1295640" cy="442800"/>
          </a:xfrm>
          <a:prstGeom prst="flowChartAlternateProcess">
            <a:avLst/>
          </a:prstGeom>
          <a:solidFill>
            <a:srgbClr val="b0dfa1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K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4596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NGARUSUTAMAAN HAK ANA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(PUHA)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engintegrasian hak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-hak anak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ke dal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proses penyusunan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kebijakan, program dan kegiatan pembangun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tahapan pembangunan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 perencanaan dan penganggaran;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laksanaan; pemantauan; dan evaluas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di </a:t>
            </a: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tingkatan wilayah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nasional, provinsi, dan kabupaten/ko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WordArt 3"/>
          <p:cNvSpPr txBox="1"/>
          <p:nvPr/>
        </p:nvSpPr>
        <p:spPr>
          <a:xfrm>
            <a:off x="2514600" y="571680"/>
            <a:ext cx="4114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STRATEG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337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Vertical Scroll 3"/>
          <p:cNvSpPr/>
          <p:nvPr/>
        </p:nvSpPr>
        <p:spPr>
          <a:xfrm>
            <a:off x="0" y="0"/>
            <a:ext cx="8001000" cy="6667560"/>
          </a:xfrm>
          <a:prstGeom prst="verticalScroll">
            <a:avLst>
              <a:gd name="adj" fmla="val 12500"/>
            </a:avLst>
          </a:prstGeom>
          <a:solidFill>
            <a:srgbClr val="cc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71760" y="857160"/>
            <a:ext cx="543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kre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partisipa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hubungan dengan orang tua bila terpisahk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 beribadat menurut agaman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berkump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berseri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hidup dengan orang t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elangsungan hidup, tumbuh  dan berkemb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 MENDAPATKA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10.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n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11. ident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12. kewarganegar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pendidik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informa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standar kesehatan paling ting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standar hidup yang lay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1928880" y="152280"/>
            <a:ext cx="53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428"/>
                </a:solidFill>
                <a:latin typeface="Arial"/>
              </a:rPr>
              <a:t>ANAK MEMPUNYAI HAK (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Vertical Scroll 3"/>
          <p:cNvSpPr/>
          <p:nvPr/>
        </p:nvSpPr>
        <p:spPr>
          <a:xfrm>
            <a:off x="-285840" y="0"/>
            <a:ext cx="8439120" cy="6786720"/>
          </a:xfrm>
          <a:prstGeom prst="verticalScroll">
            <a:avLst>
              <a:gd name="adj" fmla="val 12500"/>
            </a:avLst>
          </a:prstGeom>
          <a:solidFill>
            <a:srgbClr val="cc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1285920" y="928800"/>
            <a:ext cx="59292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 MENDAPATKAN PERLINDUNG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priba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tindakan penangkapan sewenang-wen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rampasan kebeb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rlakuan kejam, hukuman dan perlakuan tidak manusiaw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siksaan fisik dan non fis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nculikan, penjualan dan perdagangan atau trafik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ksual dan kegunaan sek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/penyalahgunaan obat-obat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bagai pekerja 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bagai kelompok minoritas/kelompok adat  terpe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mandangan atau keadaan yg menurut sifatnya belum  layak untuk dilihat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dalam situasi genting/daru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sebagai pengungsi/orang yg terusir/tergus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jika mengalami konflik huk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dalam konflik bersenjata atau konflik so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428"/>
                </a:solidFill>
                <a:latin typeface="Arial Narrow"/>
              </a:rPr>
              <a:t>(disarikan dari UU nomor 23 tahun 2002 tentang Perlindungan Ana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714680" y="162000"/>
            <a:ext cx="60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428"/>
                </a:solidFill>
                <a:latin typeface="Arial"/>
              </a:rPr>
              <a:t>ANAK MEMPUNYAI HAK (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09480"/>
            <a:ext cx="84009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R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ANG LINGKUP </a:t>
            </a: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K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meliputi seluruh bidang pembanguna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Tumbuh Kembang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erlindunga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implementasikan di kabupaten/kot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MENUHAN HAK-HAK 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AutoShape 57"/>
          <p:cNvSpPr/>
          <p:nvPr/>
        </p:nvSpPr>
        <p:spPr>
          <a:xfrm>
            <a:off x="4267080" y="2514600"/>
            <a:ext cx="685800" cy="838080"/>
          </a:xfrm>
          <a:prstGeom prst="downArrow">
            <a:avLst>
              <a:gd name="adj1" fmla="val 50000"/>
              <a:gd name="adj2" fmla="val 24995"/>
            </a:avLst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4267080" y="4191120"/>
            <a:ext cx="685800" cy="838080"/>
          </a:xfrm>
          <a:prstGeom prst="downArrow">
            <a:avLst>
              <a:gd name="adj1" fmla="val 50000"/>
              <a:gd name="adj2" fmla="val 24995"/>
            </a:avLst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4380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Tahoma"/>
                <a:ea typeface="Tahoma"/>
              </a:rPr>
              <a:t>Langkah Pengembangan KLA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380520" y="914400"/>
            <a:ext cx="8215560" cy="5376600"/>
            <a:chOff x="380520" y="914400"/>
            <a:chExt cx="8215560" cy="5376600"/>
          </a:xfrm>
        </p:grpSpPr>
        <p:sp>
          <p:nvSpPr>
            <p:cNvPr id="350" name="Freeform 4"/>
            <p:cNvSpPr/>
            <p:nvPr/>
          </p:nvSpPr>
          <p:spPr>
            <a:xfrm>
              <a:off x="7953120" y="2638080"/>
              <a:ext cx="642960" cy="943560"/>
            </a:xfrm>
            <a:prstGeom prst="pie">
              <a:avLst/>
            </a:pr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4651200" y="2688120"/>
              <a:ext cx="3943440" cy="59508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7189560" y="3450960"/>
              <a:ext cx="748080" cy="1015920"/>
            </a:xfrm>
            <a:prstGeom prst="pie">
              <a:avLst/>
            </a:pr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683880" y="3530160"/>
              <a:ext cx="4183560" cy="59400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6512760" y="4444920"/>
              <a:ext cx="667440" cy="929160"/>
            </a:xfrm>
            <a:prstGeom prst="pie">
              <a:avLst/>
            </a:pr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5840640" y="5360760"/>
              <a:ext cx="672120" cy="930240"/>
            </a:xfrm>
            <a:prstGeom prst="pie">
              <a:avLst/>
            </a:pr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1761480" y="5366160"/>
              <a:ext cx="4750920" cy="5936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 flipH="1">
              <a:off x="380520" y="6284520"/>
              <a:ext cx="138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380880" y="5360760"/>
              <a:ext cx="2346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 flipH="1">
              <a:off x="380880" y="4448880"/>
              <a:ext cx="331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 flipH="1">
              <a:off x="380520" y="3538080"/>
              <a:ext cx="427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5"/>
            <p:cNvSpPr/>
            <p:nvPr/>
          </p:nvSpPr>
          <p:spPr>
            <a:xfrm flipH="1">
              <a:off x="380880" y="2612880"/>
              <a:ext cx="524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6"/>
            <p:cNvSpPr/>
            <p:nvPr/>
          </p:nvSpPr>
          <p:spPr>
            <a:xfrm>
              <a:off x="588960" y="2606040"/>
              <a:ext cx="0" cy="9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588960" y="3564720"/>
              <a:ext cx="0" cy="89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>
              <a:off x="588960" y="4461840"/>
              <a:ext cx="0" cy="89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>
              <a:off x="588960" y="5360760"/>
              <a:ext cx="0" cy="89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1524240" y="914400"/>
              <a:ext cx="4571640" cy="5182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4638960" y="3278160"/>
              <a:ext cx="3324600" cy="2491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enyusunan Rencana Aksi Daer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2"/>
            <p:cNvSpPr/>
            <p:nvPr/>
          </p:nvSpPr>
          <p:spPr>
            <a:xfrm>
              <a:off x="3685320" y="4124160"/>
              <a:ext cx="3511440" cy="326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ngumpulan Data Ba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2724120" y="4444920"/>
              <a:ext cx="4463640" cy="59904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2727360" y="5042880"/>
              <a:ext cx="3800520" cy="326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mbentukan Gugus Tu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>
              <a:off x="1760040" y="5961240"/>
              <a:ext cx="4089600" cy="326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omitme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604800" y="29628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27"/>
            <p:cNvSpPr/>
            <p:nvPr/>
          </p:nvSpPr>
          <p:spPr>
            <a:xfrm>
              <a:off x="621720" y="390636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8"/>
            <p:cNvSpPr/>
            <p:nvPr/>
          </p:nvSpPr>
          <p:spPr>
            <a:xfrm>
              <a:off x="604800" y="482112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29"/>
            <p:cNvSpPr/>
            <p:nvPr/>
          </p:nvSpPr>
          <p:spPr>
            <a:xfrm>
              <a:off x="604800" y="570672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Rectangle 21"/>
          <p:cNvSpPr/>
          <p:nvPr/>
        </p:nvSpPr>
        <p:spPr>
          <a:xfrm>
            <a:off x="5638680" y="2362320"/>
            <a:ext cx="2928960" cy="3571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Mobilisasi </a:t>
            </a:r>
            <a:r>
              <a:rPr b="1" lang="id-ID" sz="1400" spc="-1" strike="noStrike">
                <a:solidFill>
                  <a:srgbClr val="002060"/>
                </a:solidFill>
                <a:latin typeface="Verdana"/>
              </a:rPr>
              <a:t>S</a:t>
            </a: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umber </a:t>
            </a:r>
            <a:r>
              <a:rPr b="1" lang="id-ID" sz="1400" spc="-1" strike="noStrike">
                <a:solidFill>
                  <a:srgbClr val="002060"/>
                </a:solidFill>
                <a:latin typeface="Verdana"/>
              </a:rPr>
              <a:t>D</a:t>
            </a: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5"/>
          <p:cNvSpPr/>
          <p:nvPr/>
        </p:nvSpPr>
        <p:spPr>
          <a:xfrm>
            <a:off x="5638680" y="1523880"/>
            <a:ext cx="3505320" cy="838440"/>
          </a:xfrm>
          <a:prstGeom prst="pie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4"/>
          <p:cNvSpPr/>
          <p:nvPr/>
        </p:nvSpPr>
        <p:spPr>
          <a:xfrm>
            <a:off x="8534520" y="1523880"/>
            <a:ext cx="609480" cy="1219320"/>
          </a:xfrm>
          <a:prstGeom prst="pie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32880" y="99072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6215040" y="990720"/>
            <a:ext cx="2928960" cy="685800"/>
          </a:xfrm>
          <a:prstGeom prst="rect">
            <a:avLst/>
          </a:prstGeom>
          <a:solidFill>
            <a:srgbClr val="b5edf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mantauan &amp; Evaluas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6215040" y="457200"/>
            <a:ext cx="2928960" cy="357120"/>
          </a:xfrm>
          <a:prstGeom prst="rect">
            <a:avLst/>
          </a:prstGeom>
          <a:solidFill>
            <a:srgbClr val="b0de7e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lapo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35760" y="22860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635760" y="1600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3520" y="1971360"/>
            <a:ext cx="76201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non diskriminasi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kepenting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yang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terbaik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ak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idup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, kelangsungan hidup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erkemb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nghargaan terhadap pendapat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WordArt 3"/>
          <p:cNvSpPr txBox="1"/>
          <p:nvPr/>
        </p:nvSpPr>
        <p:spPr>
          <a:xfrm>
            <a:off x="2714760" y="571680"/>
            <a:ext cx="392904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</a:rPr>
              <a:t>PRINS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 Black"/>
              <a:ea typeface="Arial Black"/>
            </a:endParaRPr>
          </a:p>
        </p:txBody>
      </p:sp>
      <p:pic>
        <p:nvPicPr>
          <p:cNvPr id="386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0102-3DE2-43BD-9FFD-6D332EF5DD61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Diagram 4" descr=""/>
          <p:cNvPicPr/>
          <p:nvPr/>
        </p:nvPicPr>
        <p:blipFill>
          <a:blip r:embed="rId1"/>
          <a:stretch/>
        </p:blipFill>
        <p:spPr>
          <a:xfrm>
            <a:off x="426960" y="1530360"/>
            <a:ext cx="8113680" cy="5145120"/>
          </a:xfrm>
          <a:prstGeom prst="rect">
            <a:avLst/>
          </a:prstGeom>
          <a:ln w="0">
            <a:noFill/>
          </a:ln>
        </p:spPr>
      </p:pic>
      <p:sp>
        <p:nvSpPr>
          <p:cNvPr id="389" name="Subtitle 2"/>
          <p:cNvSpPr/>
          <p:nvPr/>
        </p:nvSpPr>
        <p:spPr>
          <a:xfrm>
            <a:off x="0" y="-27000"/>
            <a:ext cx="9144000" cy="1197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enyusunan Program dan Kegiatan dalam rangka KLA, perlu selalu mempertimbangkan ALOKASI WAKTU ANAK dan LOKUS dimana anak b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0" name="Straight Arrow Connector 2"/>
          <p:cNvCxnSpPr/>
          <p:nvPr/>
        </p:nvCxnSpPr>
        <p:spPr>
          <a:xfrm flipH="1" flipV="1">
            <a:off x="1751760" y="2208960"/>
            <a:ext cx="68652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TextBox 5"/>
          <p:cNvSpPr/>
          <p:nvPr/>
        </p:nvSpPr>
        <p:spPr>
          <a:xfrm>
            <a:off x="431640" y="1630440"/>
            <a:ext cx="18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KOLAH RAMAH ANA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6629400" y="1609560"/>
            <a:ext cx="18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USPA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Straight Arrow Connector 8"/>
          <p:cNvCxnSpPr/>
          <p:nvPr/>
        </p:nvCxnSpPr>
        <p:spPr>
          <a:xfrm flipV="1">
            <a:off x="6324120" y="2100960"/>
            <a:ext cx="839160" cy="72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Straight Arrow Connector 11"/>
          <p:cNvCxnSpPr/>
          <p:nvPr/>
        </p:nvCxnSpPr>
        <p:spPr>
          <a:xfrm flipH="1">
            <a:off x="1523520" y="5157360"/>
            <a:ext cx="1448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TextBox 12"/>
          <p:cNvSpPr/>
          <p:nvPr/>
        </p:nvSpPr>
        <p:spPr>
          <a:xfrm>
            <a:off x="228600" y="451656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7162920" y="3733920"/>
            <a:ext cx="198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AS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ER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A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F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UANG PUB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MPAT IBAD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Straight Arrow Connector 16"/>
          <p:cNvCxnSpPr/>
          <p:nvPr/>
        </p:nvCxnSpPr>
        <p:spPr>
          <a:xfrm flipV="1">
            <a:off x="5791320" y="5485680"/>
            <a:ext cx="137232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4576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7f8fd"/>
                </a:solidFill>
                <a:latin typeface="Tahoma"/>
                <a:ea typeface="Tahoma"/>
              </a:rPr>
              <a:t>KOMITMEN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9" name="Rounded Rectangle 5"/>
          <p:cNvSpPr/>
          <p:nvPr/>
        </p:nvSpPr>
        <p:spPr>
          <a:xfrm>
            <a:off x="533520" y="1290600"/>
            <a:ext cx="8229600" cy="1071720"/>
          </a:xfrm>
          <a:prstGeom prst="roundRect">
            <a:avLst>
              <a:gd name="adj" fmla="val 16667"/>
            </a:avLst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PEMIMPIN DAERAH (BUPATI/WALIKOT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ounded Rectangle 7"/>
          <p:cNvSpPr/>
          <p:nvPr/>
        </p:nvSpPr>
        <p:spPr>
          <a:xfrm>
            <a:off x="525600" y="2556000"/>
            <a:ext cx="8229600" cy="1066680"/>
          </a:xfrm>
          <a:prstGeom prst="roundRect">
            <a:avLst>
              <a:gd name="adj" fmla="val 16667"/>
            </a:avLst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DPRD 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FUNGSI LEGISLASI + BUD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ounded Rectangle 8"/>
          <p:cNvSpPr/>
          <p:nvPr/>
        </p:nvSpPr>
        <p:spPr>
          <a:xfrm>
            <a:off x="525600" y="3805200"/>
            <a:ext cx="8229600" cy="1066680"/>
          </a:xfrm>
          <a:prstGeom prst="roundRect">
            <a:avLst>
              <a:gd name="adj" fmla="val 16667"/>
            </a:avLst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YUDIKATIF 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PENEGAK HUKU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ounded Rectangle 9"/>
          <p:cNvSpPr/>
          <p:nvPr/>
        </p:nvSpPr>
        <p:spPr>
          <a:xfrm>
            <a:off x="533520" y="5029200"/>
            <a:ext cx="8229600" cy="144792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UNIA US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ERGURUAN TINGGI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4284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33cc"/>
                </a:solidFill>
                <a:latin typeface="Tahoma"/>
                <a:ea typeface="Tahoma"/>
              </a:rPr>
              <a:t>APA yang dimaksud </a:t>
            </a:r>
            <a:br>
              <a:rPr sz="4500"/>
            </a:br>
            <a:r>
              <a:rPr b="1" i="1" lang="ig-NG" sz="4500" spc="-1" strike="noStrike">
                <a:solidFill>
                  <a:srgbClr val="ff33cc"/>
                </a:solidFill>
                <a:latin typeface="Tahoma"/>
                <a:ea typeface="Tahoma"/>
              </a:rPr>
              <a:t>KLA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92d050"/>
                </a:solidFill>
                <a:latin typeface="Tahoma"/>
                <a:ea typeface="Tahoma"/>
              </a:rPr>
              <a:t>KLA adala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sistem pembangunan kabupaten/kota yang mengintegrasikan komitmen dan sumber daya pemerintah, masyarakat dan dunia usaha yang terencana secara menyeluruh dan berkelanjutan dalam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kebijakan, 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rogram dan kegiata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emenuhan hak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-hak a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na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solidFill>
            <a:srgbClr val="ccff99"/>
          </a:solidFill>
          <a:ln w="2844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ahoma"/>
                <a:ea typeface="Tahoma"/>
              </a:rPr>
              <a:t>STRATEGI KEBIJAKAN KLA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3640" y="1125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0000"/>
                </a:solidFill>
                <a:latin typeface="Constantia"/>
              </a:rPr>
              <a:t>sumber daya manusia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dan penguatan </a:t>
            </a:r>
            <a:r>
              <a:rPr b="1" lang="id-ID" sz="2600" spc="-1" strike="noStrike">
                <a:solidFill>
                  <a:srgbClr val="ff0000"/>
                </a:solidFill>
                <a:latin typeface="Constantia"/>
              </a:rPr>
              <a:t>peran  kelembagaan pemerintah dan pemerintah daerah</a:t>
            </a:r>
            <a:r>
              <a:rPr b="0" lang="id-ID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lam pencegahan dan penyediaan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layanan</a:t>
            </a:r>
            <a:r>
              <a:rPr b="0" lang="en-ID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ran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rang perseorang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perlindungan anak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kesejahteraan sosial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rganisasi kemasyarakat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pendidik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media mass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dunia usah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dan anak </a:t>
            </a:r>
            <a:r>
              <a:rPr b="0" lang="id-ID" sz="2800" spc="-1" strike="noStrike">
                <a:solidFill>
                  <a:srgbClr val="ffffff"/>
                </a:solidFill>
                <a:latin typeface="Constantia"/>
              </a:rPr>
              <a:t>melalui advokasi, fasilitasi, sosialisasi, dan edukasi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sarana dan prasarana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yang mendukung pemenuhan hak anak dan perlindungan khusus anak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201-81F2-4555-AA39-75F49B4A3BC0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63244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3CCB-0925-4AE9-B6B6-C58C7FE3B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6"/>
          <p:cNvGrpSpPr/>
          <p:nvPr/>
        </p:nvGrpSpPr>
        <p:grpSpPr>
          <a:xfrm>
            <a:off x="342720" y="1143000"/>
            <a:ext cx="8344080" cy="5029200"/>
            <a:chOff x="342720" y="1143000"/>
            <a:chExt cx="8344080" cy="5029200"/>
          </a:xfrm>
        </p:grpSpPr>
        <p:sp>
          <p:nvSpPr>
            <p:cNvPr id="408" name="Freeform 20"/>
            <p:cNvSpPr/>
            <p:nvPr/>
          </p:nvSpPr>
          <p:spPr>
            <a:xfrm>
              <a:off x="562680" y="1143000"/>
              <a:ext cx="3142800" cy="4878000"/>
            </a:xfrm>
            <a:prstGeom prst="pie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15"/>
            <p:cNvGrpSpPr/>
            <p:nvPr/>
          </p:nvGrpSpPr>
          <p:grpSpPr>
            <a:xfrm>
              <a:off x="2939400" y="1478160"/>
              <a:ext cx="5747400" cy="4694040"/>
              <a:chOff x="2939400" y="1478160"/>
              <a:chExt cx="5747400" cy="4694040"/>
            </a:xfrm>
          </p:grpSpPr>
          <p:sp>
            <p:nvSpPr>
              <p:cNvPr id="410" name="Cube 8"/>
              <p:cNvSpPr/>
              <p:nvPr/>
            </p:nvSpPr>
            <p:spPr>
              <a:xfrm>
                <a:off x="2939400" y="5501880"/>
                <a:ext cx="5377320" cy="6703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1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EKLARASI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membangun komitme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Cube 9"/>
              <p:cNvSpPr/>
              <p:nvPr/>
            </p:nvSpPr>
            <p:spPr>
              <a:xfrm>
                <a:off x="3092400" y="4831200"/>
                <a:ext cx="5223960" cy="67032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. Pembentukan Gugus Tug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Cube 10"/>
              <p:cNvSpPr/>
              <p:nvPr/>
            </p:nvSpPr>
            <p:spPr>
              <a:xfrm>
                <a:off x="3245760" y="4160520"/>
                <a:ext cx="5070600" cy="6703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3. Pengumpulan Data Basi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Profil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Cube 11"/>
              <p:cNvSpPr/>
              <p:nvPr/>
            </p:nvSpPr>
            <p:spPr>
              <a:xfrm>
                <a:off x="3399120" y="3489840"/>
                <a:ext cx="4981320" cy="670320"/>
              </a:xfrm>
              <a:prstGeom prst="cube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4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Penilaian Mandiri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24 Indikator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Cube 12"/>
              <p:cNvSpPr/>
              <p:nvPr/>
            </p:nvSpPr>
            <p:spPr>
              <a:xfrm>
                <a:off x="3552480" y="281916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5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RENCANA AKSI DAERAH (RAD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Cube 13"/>
              <p:cNvSpPr/>
              <p:nvPr/>
            </p:nvSpPr>
            <p:spPr>
              <a:xfrm>
                <a:off x="3705480" y="214848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6.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PELAKSANAAN KLA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+ PEMANTAU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Cube 14"/>
              <p:cNvSpPr/>
              <p:nvPr/>
            </p:nvSpPr>
            <p:spPr>
              <a:xfrm>
                <a:off x="3858840" y="147816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7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EVALUASI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Straight Connector 17"/>
            <p:cNvSpPr/>
            <p:nvPr/>
          </p:nvSpPr>
          <p:spPr>
            <a:xfrm flipH="1">
              <a:off x="343080" y="6172200"/>
              <a:ext cx="2480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18" name="Straight Arrow Connector 19"/>
            <p:cNvCxnSpPr/>
            <p:nvPr/>
          </p:nvCxnSpPr>
          <p:spPr>
            <a:xfrm flipV="1">
              <a:off x="351720" y="4271760"/>
              <a:ext cx="1080" cy="17492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19" name="Straight Connector 20"/>
            <p:cNvSpPr/>
            <p:nvPr/>
          </p:nvSpPr>
          <p:spPr>
            <a:xfrm flipH="1">
              <a:off x="342720" y="4160520"/>
              <a:ext cx="2902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Straight Connector 24"/>
            <p:cNvSpPr/>
            <p:nvPr/>
          </p:nvSpPr>
          <p:spPr>
            <a:xfrm flipH="1">
              <a:off x="342720" y="3489840"/>
              <a:ext cx="305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21" name="Straight Arrow Connector 26"/>
            <p:cNvCxnSpPr/>
            <p:nvPr/>
          </p:nvCxnSpPr>
          <p:spPr>
            <a:xfrm flipV="1">
              <a:off x="342720" y="3548880"/>
              <a:ext cx="1080" cy="552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2" name="TextBox 33"/>
            <p:cNvSpPr/>
            <p:nvPr/>
          </p:nvSpPr>
          <p:spPr>
            <a:xfrm>
              <a:off x="352080" y="4495680"/>
              <a:ext cx="200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ERENCAN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Box 34"/>
            <p:cNvSpPr/>
            <p:nvPr/>
          </p:nvSpPr>
          <p:spPr>
            <a:xfrm>
              <a:off x="507240" y="3596400"/>
              <a:ext cx="231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A K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itle 1"/>
          <p:cNvSpPr/>
          <p:nvPr/>
        </p:nvSpPr>
        <p:spPr>
          <a:xfrm>
            <a:off x="36684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TAHAPAN</a:t>
            </a:r>
            <a:r>
              <a:rPr b="1" i="1" lang="ig-NG" sz="32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Tahoma"/>
              </a:rPr>
              <a:t>Penyelenggaraan 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457200" y="22860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ahoma"/>
                <a:ea typeface="Tahoma"/>
              </a:rPr>
              <a:t>I. ASPEK MANAJ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RENCANA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output dalam bentuk RAD; terintegrasi ke dalam dokumen perencanaan daerah (RPJMD dan/atau RKPD); dalam prosesnya melibatkan partisipasi anak (misal: melalui musrenbang)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koordinator:</a:t>
            </a:r>
            <a:r>
              <a:rPr b="1" lang="id-ID" sz="2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Bappe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NGANGGAR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pastikan semua rencana dalam RAD memperoleh alokasi anggaran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peran legislatif: koordinator:</a:t>
            </a:r>
            <a:r>
              <a:rPr b="1" lang="id-ID" sz="2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Bappe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LAKSANA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RAD tidak hanya dilaksanakan oleh  SKPD, tetapi juga dunia usaha dan masyaraka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IMG_1332"/>
          <p:cNvPicPr/>
          <p:nvPr/>
        </p:nvPicPr>
        <p:blipFill>
          <a:blip r:embed="rId1"/>
          <a:stretch/>
        </p:blipFill>
        <p:spPr>
          <a:xfrm>
            <a:off x="3048120" y="434340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22080"/>
            <a:ext cx="82296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PEMANTAU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pelaksanaan RAD dipantau secara berkal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EVALUAS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pelaksanaan RAD dievaluasi setiap akhir tahun; oleh pihak independe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PELAPOR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hasil pelaksanaan RAD dilaporkan ke pimpinan (dari GT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Walikota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Gubernur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Menteri PP dan PA dan Mendagri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koordinator: Badan/Kantor/Unit PP dan PA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2436480"/>
            <a:ext cx="8229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I. ASPEK  TAHAPAN PENGEMBANGAN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Diawali dan dilandasi oleh KOMITMEN pimpinan daerah (Walikota, Lembaga Legislatif, Dunia Usaha, Masyarakat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SEMUA)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Bentuk GUGUS TUGAS: bisa memanfaatkan Tim/Pokja yang sudah ada; tahap awal: libatkan seluruh SKPD terkait (untuk pembagian tugas </a:t>
            </a:r>
            <a:r>
              <a:rPr b="1" lang="ig-NG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 siapa mengerjakan apa); tahap berikutnya: libatka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Forum Anak (perwakilan anak), 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lembaga masyarakat, toga, toma, dunia usaha, dll; penetapan dengan SK</a:t>
            </a:r>
            <a:r>
              <a:rPr b="1" lang="en-AU" sz="2300" spc="-1" strike="noStrike">
                <a:solidFill>
                  <a:srgbClr val="ffffff"/>
                </a:solidFill>
                <a:latin typeface="Tahoma"/>
                <a:ea typeface="Tahoma"/>
              </a:rPr>
              <a:t> Walikota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7" descr="IMG_0084"/>
          <p:cNvPicPr/>
          <p:nvPr/>
        </p:nvPicPr>
        <p:blipFill>
          <a:blip r:embed="rId1"/>
          <a:stretch/>
        </p:blipFill>
        <p:spPr>
          <a:xfrm>
            <a:off x="2971800" y="5334120"/>
            <a:ext cx="3197160" cy="1371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981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Kumpulkan, olah dan analisis semua DATA ANAK; sehingga diketahui secara jelas besaran masalah anak, di mana saja lokasinya, dll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Buat RENCANA AKSI DAERAH (RAD) yang ditujukan untuk mengatasi masalah anak </a:t>
            </a:r>
            <a:r>
              <a:rPr b="1" lang="ig-NG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 tujuan akhir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RAD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: pemenuhan hak-hak anak; pembagian peran jelas; dalam proses penyusunan libatkan seluruh pemangku kepentingan, termasuk libatkan anak; penganggaran jelas, dll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(Catatan: Upayakan agar RAD terintegrasi dengan dokumen perencanaan daerah: RPJMD atau Renstrada/RKPD; sehingga terjamin pembiayaannya)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2207880"/>
            <a:ext cx="80769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Tahoma"/>
                <a:ea typeface="Tahoma"/>
              </a:rPr>
              <a:t>III. ASPEK SUBSTANSI </a:t>
            </a:r>
            <a:r>
              <a:rPr b="1" lang="en-US" sz="2800" spc="-1" strike="noStrike">
                <a:solidFill>
                  <a:srgbClr val="dbf5f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dbf5f9"/>
                </a:solidFill>
                <a:latin typeface="Tahoma"/>
                <a:ea typeface="Tahoma"/>
              </a:rPr>
              <a:t> 31 hak 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HAK SIPIL DAN KEBEBASAN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LINGKUNGAN KELUARGA DAN PENGASUHAN ALTERNATIF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KESEHATAN DASAR DAN KESEJAHTERAAN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PENDIDIKAN, PEMANFAATAN WAKTU LUANG DAN KEGIATAN SENI BUDAYA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PERLINDUNGAN KHUSUS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Picture 2" descr="D:\KLA 2011\2011\KLA 11 kabkota\Buku KLA\Kunjungan Lapangan\Kabupaten Gorontalo\Foto\100_8651.JPG"/>
          <p:cNvPicPr/>
          <p:nvPr/>
        </p:nvPicPr>
        <p:blipFill>
          <a:blip r:embed="rId1"/>
          <a:stretch/>
        </p:blipFill>
        <p:spPr>
          <a:xfrm>
            <a:off x="2666880" y="510552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3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6576840" cy="17492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 flipH="1">
            <a:off x="250920" y="238140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UU 35/2014 tentang 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Perubahan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tas 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UU 23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/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2002 – Pasal 21 ayat (4,5,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539640" y="31654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Transformasi Konvensi Hak A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HA)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dari bahasa hukum ke dalam Kebijakan, Program, dan Kegiatan untuk menjam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nuhan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h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k dan perlindungan khusus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an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PHP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20680" cy="18003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8"/>
          <p:cNvSpPr/>
          <p:nvPr/>
        </p:nvSpPr>
        <p:spPr>
          <a:xfrm flipH="1">
            <a:off x="468360" y="5189400"/>
            <a:ext cx="82072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nuhan Hak Anak dan Perlindungan Khusus Anak = PERLINDUNGAN A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9"/>
          <p:cNvGrpSpPr/>
          <p:nvPr/>
        </p:nvGrpSpPr>
        <p:grpSpPr>
          <a:xfrm>
            <a:off x="312840" y="914400"/>
            <a:ext cx="8680320" cy="5816160"/>
            <a:chOff x="312840" y="914400"/>
            <a:chExt cx="8680320" cy="5816160"/>
          </a:xfrm>
        </p:grpSpPr>
        <p:sp>
          <p:nvSpPr>
            <p:cNvPr id="444" name="Oval 10"/>
            <p:cNvSpPr/>
            <p:nvPr/>
          </p:nvSpPr>
          <p:spPr>
            <a:xfrm>
              <a:off x="3619440" y="2071440"/>
              <a:ext cx="1966680" cy="190188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ak Sipil Kebebas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1"/>
            <p:cNvSpPr/>
            <p:nvPr/>
          </p:nvSpPr>
          <p:spPr>
            <a:xfrm>
              <a:off x="5262480" y="2647800"/>
              <a:ext cx="2054160" cy="19796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</a:rPr>
                <a:t>Lingkungan Keluarga &amp; Pengasuhan Alternati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2"/>
            <p:cNvSpPr/>
            <p:nvPr/>
          </p:nvSpPr>
          <p:spPr>
            <a:xfrm>
              <a:off x="4576680" y="4406760"/>
              <a:ext cx="2151000" cy="1942920"/>
            </a:xfrm>
            <a:prstGeom prst="ellipse">
              <a:avLst/>
            </a:prstGeom>
            <a:solidFill>
              <a:srgbClr val="dbe7b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esehatan Dasar &amp; Kesejahter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487600" y="4465800"/>
              <a:ext cx="2097000" cy="1838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</a:t>
              </a: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endidikan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,</a:t>
              </a: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Pemanfaatan Waktu Luang &amp; Kegiatan Buday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4"/>
            <p:cNvSpPr/>
            <p:nvPr/>
          </p:nvSpPr>
          <p:spPr>
            <a:xfrm>
              <a:off x="2043000" y="2816280"/>
              <a:ext cx="2049480" cy="1903320"/>
            </a:xfrm>
            <a:prstGeom prst="ellipse">
              <a:avLst/>
            </a:prstGeom>
            <a:solidFill>
              <a:srgbClr val="f1e8f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rlindungan Khus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3657600" y="3166920"/>
              <a:ext cx="2100240" cy="19954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Kelembag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913320" y="6469200"/>
              <a:ext cx="7476840" cy="26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1. Perda KLA; 2. </a:t>
              </a:r>
              <a:r>
                <a:rPr b="1" lang="en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Terl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embaga KLA; 3.</a:t>
              </a:r>
              <a:r>
                <a:rPr b="1" lang="en-US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 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Keterlibatan Masy</a:t>
              </a:r>
              <a:r>
                <a:rPr b="1" lang="en-US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arakat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, Dunia Usaha &amp; Med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1" name="Straight Arrow Connector 29"/>
            <p:cNvCxnSpPr/>
            <p:nvPr/>
          </p:nvCxnSpPr>
          <p:spPr>
            <a:xfrm>
              <a:off x="4584240" y="5162040"/>
              <a:ext cx="1080" cy="1307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2" name="Rectangle 30"/>
            <p:cNvSpPr/>
            <p:nvPr/>
          </p:nvSpPr>
          <p:spPr>
            <a:xfrm>
              <a:off x="3502800" y="914400"/>
              <a:ext cx="2428560" cy="5961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4.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Akta Kelahiran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5. Info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masi Layak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6. Partisipasi 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3" name="Straight Arrow Connector 7168"/>
            <p:cNvCxnSpPr>
              <a:stCxn id="444" idx="0"/>
              <a:endCxn id="452" idx="2"/>
            </p:cNvCxnSpPr>
            <p:nvPr/>
          </p:nvCxnSpPr>
          <p:spPr>
            <a:xfrm flipV="1">
              <a:off x="4601880" y="1513440"/>
              <a:ext cx="114840" cy="557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4" name="Rectangle 7171"/>
            <p:cNvSpPr/>
            <p:nvPr/>
          </p:nvSpPr>
          <p:spPr>
            <a:xfrm>
              <a:off x="6160680" y="1104480"/>
              <a:ext cx="2505960" cy="126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7. Perkawinan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8. Lembaga Konsultasi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bg Ortu/Keluarga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9. Lembaga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ngasuhan Altern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0. PAUD-HI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 Infrastruktur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amah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5" name="Straight Arrow Connector 7173"/>
            <p:cNvCxnSpPr>
              <a:stCxn id="445" idx="7"/>
              <a:endCxn id="454" idx="2"/>
            </p:cNvCxnSpPr>
            <p:nvPr/>
          </p:nvCxnSpPr>
          <p:spPr>
            <a:xfrm flipV="1">
              <a:off x="7015320" y="2380320"/>
              <a:ext cx="398880" cy="557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6" name="Rectangle 7177"/>
            <p:cNvSpPr/>
            <p:nvPr/>
          </p:nvSpPr>
          <p:spPr>
            <a:xfrm>
              <a:off x="7275600" y="4187880"/>
              <a:ext cx="1717560" cy="1935360"/>
            </a:xfrm>
            <a:prstGeom prst="rect">
              <a:avLst/>
            </a:prstGeom>
            <a:solidFill>
              <a:srgbClr val="dbe7b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Persalinan di Faske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3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Prevalensi Gizi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4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MB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5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. Faskes dgn Pelayanan Ramah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6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Air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Minum dan Sanit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7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KTR dan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IPS 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oko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7" name="Straight Arrow Connector 7179"/>
            <p:cNvCxnSpPr>
              <a:stCxn id="446" idx="6"/>
            </p:cNvCxnSpPr>
            <p:nvPr/>
          </p:nvCxnSpPr>
          <p:spPr>
            <a:xfrm flipV="1">
              <a:off x="6727680" y="5229000"/>
              <a:ext cx="540360" cy="1497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8" name="Rectangle 7182"/>
            <p:cNvSpPr/>
            <p:nvPr/>
          </p:nvSpPr>
          <p:spPr>
            <a:xfrm>
              <a:off x="312840" y="4624920"/>
              <a:ext cx="1539720" cy="596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8. Wajar 12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 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9. S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0.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9" name="Straight Arrow Connector 7184"/>
            <p:cNvCxnSpPr>
              <a:stCxn id="447" idx="2"/>
            </p:cNvCxnSpPr>
            <p:nvPr/>
          </p:nvCxnSpPr>
          <p:spPr>
            <a:xfrm flipH="1" flipV="1">
              <a:off x="1851840" y="5229360"/>
              <a:ext cx="635400" cy="155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0" name="Rectangle 7185"/>
            <p:cNvSpPr/>
            <p:nvPr/>
          </p:nvSpPr>
          <p:spPr>
            <a:xfrm>
              <a:off x="410400" y="914400"/>
              <a:ext cx="1706040" cy="1767960"/>
            </a:xfrm>
            <a:prstGeom prst="rect">
              <a:avLst/>
            </a:prstGeom>
            <a:solidFill>
              <a:srgbClr val="f1e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1.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	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orban Kekerasan &amp; Eksploit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orban Pornografi &amp; Situasi Darur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nyandang Disabilit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ABH, Terorisme, Stigm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1" name="Straight Arrow Connector 7187"/>
            <p:cNvCxnSpPr/>
            <p:nvPr/>
          </p:nvCxnSpPr>
          <p:spPr>
            <a:xfrm flipH="1" flipV="1">
              <a:off x="2158560" y="2391840"/>
              <a:ext cx="329040" cy="614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62" name="TextBox 20"/>
          <p:cNvSpPr/>
          <p:nvPr/>
        </p:nvSpPr>
        <p:spPr>
          <a:xfrm>
            <a:off x="0" y="-123120"/>
            <a:ext cx="9144000" cy="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  <a:ea typeface="Arial"/>
              </a:rPr>
              <a:t>24 Indikator Kabupaten/Kota Layak Anak (KL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3414600" y="2208240"/>
            <a:ext cx="112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22"/>
          <p:cNvSpPr/>
          <p:nvPr/>
        </p:nvSpPr>
        <p:spPr>
          <a:xfrm>
            <a:off x="6975360" y="3657600"/>
            <a:ext cx="112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23"/>
          <p:cNvSpPr/>
          <p:nvPr/>
        </p:nvSpPr>
        <p:spPr>
          <a:xfrm>
            <a:off x="5783400" y="5853240"/>
            <a:ext cx="1120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24"/>
          <p:cNvSpPr/>
          <p:nvPr/>
        </p:nvSpPr>
        <p:spPr>
          <a:xfrm>
            <a:off x="1852560" y="5803920"/>
            <a:ext cx="1119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25"/>
          <p:cNvSpPr/>
          <p:nvPr/>
        </p:nvSpPr>
        <p:spPr>
          <a:xfrm>
            <a:off x="1244520" y="3841920"/>
            <a:ext cx="1119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CC74-4A3D-45A6-A365-1D0D274FEBD7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Diagram 3" descr=""/>
          <p:cNvPicPr/>
          <p:nvPr/>
        </p:nvPicPr>
        <p:blipFill>
          <a:blip r:embed="rId1"/>
          <a:stretch/>
        </p:blipFill>
        <p:spPr>
          <a:xfrm>
            <a:off x="244440" y="444600"/>
            <a:ext cx="8655120" cy="61578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2"/>
          <p:cNvSpPr/>
          <p:nvPr/>
        </p:nvSpPr>
        <p:spPr>
          <a:xfrm>
            <a:off x="1560600" y="163440"/>
            <a:ext cx="6014880" cy="1027080"/>
          </a:xfrm>
          <a:prstGeom prst="rect">
            <a:avLst/>
          </a:prstGeom>
          <a:solidFill>
            <a:srgbClr val="ccff99"/>
          </a:solidFill>
          <a:ln w="38160">
            <a:solidFill>
              <a:srgbClr val="ffffff"/>
            </a:solidFill>
            <a:miter/>
          </a:ln>
          <a:effectLst>
            <a:outerShdw dist="29795" dir="3898986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TRATEGI INTERVEN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FOKUS PADA “PENCEGAH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398B-BC77-4AD8-B754-501FA49E6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4488-1681-43D8-941F-FFC3F00621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9640" y="1348200"/>
            <a:ext cx="8229600" cy="463464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abupaten/kota dengan sistem pembangunan </a:t>
            </a:r>
            <a:r>
              <a:rPr b="0" lang="en-US" sz="4400" spc="-1" strike="noStrike">
                <a:solidFill>
                  <a:srgbClr val="ffffff"/>
                </a:solidFill>
                <a:latin typeface="Berlin Sans FB Demi"/>
                <a:ea typeface="Arial"/>
              </a:rPr>
              <a:t>yang menjamin pemenuhan hak Anak dan perlindungan khusus Anak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yang dilakukan secara </a:t>
            </a:r>
            <a:r>
              <a:rPr b="0" lang="en-US" sz="4200" spc="-1" strike="noStrike">
                <a:solidFill>
                  <a:srgbClr val="0070c0"/>
                </a:solidFill>
                <a:latin typeface="Berlin Sans FB Demi"/>
                <a:ea typeface="Arial"/>
              </a:rPr>
              <a:t>terencana, menyeluruh, dan berkelanjut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04920" y="276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Kabupaten/</a:t>
            </a:r>
            <a:r>
              <a:rPr b="1" lang="id-ID" sz="3200" spc="-1" strike="noStrike">
                <a:solidFill>
                  <a:srgbClr val="ffff00"/>
                </a:solidFill>
                <a:latin typeface="Tahoma"/>
                <a:ea typeface="Tahoma"/>
              </a:rPr>
              <a:t>Kota Layak Anak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(KLA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NEGARA DAN PEMERINTAH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Berkewajiban dan bertanggung jawab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menghormati dan menjamin hak asasi setiap anak, tanpa membedakan suku, agama, ras, golongan, jenis kelamin, etnik, budaya dan bahasa, status hukum anak, urutan kelahiran anak, kondisi fisik dan/atau mental (Pasal 21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Berkewajiban dan bertanggung jawab</a:t>
            </a:r>
            <a:r>
              <a:rPr b="1" lang="id-ID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memberikan dukungan sarana dan prasarana dalam penyelenggaraan perlindungan anak (Pasal 22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Menjamin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perlindungan, pemeliharaan dan kesejahteraan anak dengan memperhatikan hak dan kewajiban orang tua, wali atau orang lain yang secara hukum bertanggung jawab terhadap anak (Pasal 23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Wajib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mengawasi penyelenggaraan perlindungan anak (Pasal 23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Menjamin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anak untuk mempergunakan haknya dalam menyampaikan pendapat sesuai dengan usia dan tingkat kecerdasan anak (Pasal 24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609480" y="2590920"/>
            <a:ext cx="7925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nti</a:t>
            </a:r>
            <a:r>
              <a:rPr b="1" lang="ig-NG" sz="3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ari </a:t>
            </a:r>
            <a:r>
              <a:rPr b="1" lang="ig-NG" sz="3600" spc="-1" strike="noStrike">
                <a:solidFill>
                  <a:srgbClr val="ffff00"/>
                </a:solidFill>
                <a:latin typeface="Tahoma"/>
                <a:ea typeface="Tahoma"/>
              </a:rPr>
              <a:t>KLA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ABUPATEN/KOTA dimana anak dapat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tumbu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berkemba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secara optimal serta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terlindungi</a:t>
            </a:r>
            <a:r>
              <a:rPr b="1" lang="en-US" sz="2400" spc="-1" strike="noStrike">
                <a:solidFill>
                  <a:srgbClr val="66ff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ri kekerasan dan diskriminas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5" name="Picture 2" descr="D:\KLA 2011\2011\KLA 11 kabkota\Buku KLA\Kunjungan Lapangan\Kabupaten Gorontalo\Foto\DSC01581.JPG"/>
          <p:cNvPicPr/>
          <p:nvPr/>
        </p:nvPicPr>
        <p:blipFill>
          <a:blip r:embed="rId1"/>
          <a:stretch/>
        </p:blipFill>
        <p:spPr>
          <a:xfrm>
            <a:off x="2819520" y="409680"/>
            <a:ext cx="370656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nak adalah bagian dari masa kini dan pemilik masa depan … Lindungi mereka dan penuhi hak-haknya…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00440" y="5562720"/>
            <a:ext cx="375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www.KLA</a:t>
            </a:r>
            <a:r>
              <a:rPr b="1" lang="id-ID" sz="24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or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39" descr="E:\Logo KLA.jpg"/>
          <p:cNvPicPr/>
          <p:nvPr/>
        </p:nvPicPr>
        <p:blipFill>
          <a:blip r:embed="rId1"/>
          <a:stretch/>
        </p:blipFill>
        <p:spPr>
          <a:xfrm>
            <a:off x="3048120" y="2133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28800" y="837720"/>
            <a:ext cx="6386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700" spc="-1" strike="noStrike">
                <a:solidFill>
                  <a:srgbClr val="ff33cc"/>
                </a:solidFill>
                <a:latin typeface="Tahoma"/>
                <a:ea typeface="Tahoma"/>
              </a:rPr>
              <a:t>Tujuan KLA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Untuk membangun inisiatif pemerintahan kabupaten/kota yang mengarah pada upaya transformasi Konvensi Hak-hak Anak </a:t>
            </a:r>
            <a:r>
              <a:rPr b="0" i="1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(Convention on the Rights of the Child)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 dari kerangka hukum ke dalam definisi, strategi, dan intervens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p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embangunan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dalam bentuk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: kebijakan, progra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dan kegiatan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pembangunan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dalam upaya pemenuhan hak-hak anak, 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pada suatu dimensi wilayah kabupaten/ko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D:\KLA 2011\2011\KLA 11 kabkota\Buku KLA\Kunjungan Lapangan\Kabupaten Gorontalo\Foto\DSC01581.JPG"/>
          <p:cNvPicPr/>
          <p:nvPr/>
        </p:nvPicPr>
        <p:blipFill>
          <a:blip r:embed="rId1"/>
          <a:stretch/>
        </p:blipFill>
        <p:spPr>
          <a:xfrm>
            <a:off x="5437080" y="152280"/>
            <a:ext cx="3326040" cy="2333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342800" y="642600"/>
            <a:ext cx="780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4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DASAN HUK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Constanti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W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orld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it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or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C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hildre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K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onvensi </a:t>
            </a: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k-hak </a:t>
            </a: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nak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Millennium Development Goals </a:t>
            </a:r>
            <a:r>
              <a:rPr b="0" i="1" lang="id-ID" sz="2500" spc="-1" strike="noStrike">
                <a:solidFill>
                  <a:srgbClr val="ffffff"/>
                </a:solidFill>
                <a:latin typeface="Constantia"/>
              </a:rPr>
              <a:t>(MDGs)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  Sustainable Development  Goals (SDGs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ff"/>
                </a:solidFill>
                <a:latin typeface="Constantia"/>
              </a:rPr>
              <a:t>dll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Constantia"/>
              </a:rPr>
              <a:t>Na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Undang-Undang Dasar 1945 Pasal 28b dan 28c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UU 35/2014 tentang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Perubahan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Atas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 UU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 23/2002 tentang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P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erlindungan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A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nak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UU 17/2007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RPJPN 2005-2025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Inpres 01/2010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rogram Prioritas Pembangunan Nasiona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er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aturan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Pres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iden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5/2010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RPJMN 2010-2014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rogram Nasional Bagi Anak Indonesia (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NBAI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2015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er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aturan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Men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neg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PP 2 /2009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ttg Kebijakan KL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dl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6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295280" cy="12193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2"/>
          <p:cNvCxnSpPr/>
          <p:nvPr/>
        </p:nvCxnSpPr>
        <p:spPr>
          <a:xfrm>
            <a:off x="7315200" y="2437920"/>
            <a:ext cx="3816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42800" y="642600"/>
            <a:ext cx="7267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NDASAN HUKU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91c6f7"/>
                </a:solidFill>
                <a:latin typeface="Constantia"/>
              </a:rPr>
              <a:t>Daera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just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Peraturan Daerah Kota Pekalongan nomor 13 Tahun 2019 tentang Penyelenggaran Perlindungan Anak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(Kota Layak Anak diatur didalam Perda Penyelenggaraan Perlindugan Anak nomor 13 Tahun 2019)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295280" cy="121932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2"/>
          <p:cNvCxnSpPr/>
          <p:nvPr/>
        </p:nvCxnSpPr>
        <p:spPr>
          <a:xfrm>
            <a:off x="7315200" y="2437920"/>
            <a:ext cx="3816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9" descr="E:\Logo KLA.jpg"/>
          <p:cNvPicPr/>
          <p:nvPr/>
        </p:nvPicPr>
        <p:blipFill>
          <a:blip r:embed="rId1"/>
          <a:stretch/>
        </p:blipFill>
        <p:spPr>
          <a:xfrm>
            <a:off x="228600" y="76320"/>
            <a:ext cx="144792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9250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ahoma"/>
                <a:ea typeface="Tahoma"/>
              </a:rPr>
              <a:t>MENGAPA dikembangkan KLA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ari 309.901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tal penduduk Kota Pekalongan 31.7% terdiri dari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ak umur (0- 18 Tahun)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 merupakan investasi SD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arus tumbuh dan berkembang secara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optimal dan terlindungi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Pembangunan selama ini masih parsial dan segmentatif, belum peduli/ramah anak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ke depan: harus holisti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integrat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dan berkelanjutan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d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rcRect l="0" t="0" r="0" b="36976"/>
          <a:stretch/>
        </p:blipFill>
        <p:spPr>
          <a:xfrm>
            <a:off x="0" y="14400"/>
            <a:ext cx="9144000" cy="8175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7"/>
          <p:cNvGrpSpPr/>
          <p:nvPr/>
        </p:nvGrpSpPr>
        <p:grpSpPr>
          <a:xfrm>
            <a:off x="324000" y="760320"/>
            <a:ext cx="8640720" cy="2662200"/>
            <a:chOff x="324000" y="760320"/>
            <a:chExt cx="8640720" cy="2662200"/>
          </a:xfrm>
        </p:grpSpPr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324000" y="2284200"/>
              <a:ext cx="13968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8" descr=""/>
            <p:cNvPicPr/>
            <p:nvPr/>
          </p:nvPicPr>
          <p:blipFill>
            <a:blip r:embed="rId3"/>
            <a:srcRect l="70695" t="0" r="0" b="0"/>
            <a:stretch/>
          </p:blipFill>
          <p:spPr>
            <a:xfrm>
              <a:off x="5322600" y="1006200"/>
              <a:ext cx="1432800" cy="24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9" descr=""/>
            <p:cNvPicPr/>
            <p:nvPr/>
          </p:nvPicPr>
          <p:blipFill>
            <a:blip r:embed="rId4"/>
            <a:srcRect l="0" t="0" r="66470" b="0"/>
            <a:stretch/>
          </p:blipFill>
          <p:spPr>
            <a:xfrm>
              <a:off x="3514680" y="1387800"/>
              <a:ext cx="1369080" cy="20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0" descr=""/>
            <p:cNvPicPr/>
            <p:nvPr/>
          </p:nvPicPr>
          <p:blipFill>
            <a:blip r:embed="rId5"/>
            <a:srcRect l="33962" t="0" r="30486" b="0"/>
            <a:stretch/>
          </p:blipFill>
          <p:spPr>
            <a:xfrm>
              <a:off x="7049160" y="760320"/>
              <a:ext cx="1915560" cy="26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2" descr=""/>
            <p:cNvPicPr/>
            <p:nvPr/>
          </p:nvPicPr>
          <p:blipFill>
            <a:blip r:embed="rId6"/>
            <a:stretch/>
          </p:blipFill>
          <p:spPr>
            <a:xfrm flipH="1">
              <a:off x="1784520" y="2193840"/>
              <a:ext cx="120204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Box 28"/>
          <p:cNvSpPr/>
          <p:nvPr/>
        </p:nvSpPr>
        <p:spPr>
          <a:xfrm>
            <a:off x="146160" y="282600"/>
            <a:ext cx="72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itannic Bold"/>
                <a:ea typeface="Arial"/>
              </a:rPr>
              <a:t>MENGAP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72428"/>
                </a:solidFill>
                <a:latin typeface="Calibri"/>
                <a:ea typeface="Arial"/>
              </a:rPr>
              <a:t>KLA PERLU DIWUJUD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138240" y="4437000"/>
            <a:ext cx="89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anah Internasional dan Na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400" spc="-1" strike="noStrike">
                <a:solidFill>
                  <a:srgbClr val="ffffff"/>
                </a:solidFill>
                <a:latin typeface="Tahoma"/>
                <a:ea typeface="Tahoma"/>
              </a:rPr>
              <a:t>Anak merupakan investasi SD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ak sebagai tongkat estafet penerus masa depan bang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LA sebagai wujud nyata implementasi Konvensi Hak Anak dan berbagai peraturan perundang-undangan dan kebijakan terkait “Pemenuhan Hak Anak dan Perlindungan Khusus Anak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76320" y="3606840"/>
            <a:ext cx="9036000" cy="825480"/>
          </a:xfrm>
          <a:prstGeom prst="rect">
            <a:avLst/>
          </a:prstGeom>
          <a:solidFill>
            <a:srgbClr val="1b6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Jumlah Anak Indonesia: </a:t>
            </a:r>
            <a:r>
              <a:rPr b="1" lang="en-US" sz="2800" spc="-1" strike="noStrike">
                <a:solidFill>
                  <a:srgbClr val="ffff00"/>
                </a:solidFill>
                <a:latin typeface="Berlin Sans FB Demi"/>
                <a:ea typeface="Arial"/>
              </a:rPr>
              <a:t>83,4 j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Jiw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atau </a:t>
            </a:r>
            <a:r>
              <a:rPr b="1" lang="en-US" sz="2800" spc="-1" strike="noStrike">
                <a:solidFill>
                  <a:srgbClr val="ffff00"/>
                </a:solidFill>
                <a:latin typeface="Berlin Sans FB Demi"/>
                <a:ea typeface="Arial"/>
              </a:rPr>
              <a:t>33,4%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Populasi Penduduk di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 DARI 3 PENDUDUK INDONESIA ADALAH A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hon</dc:creator>
  <dc:description/>
  <dc:language>en-US</dc:language>
  <cp:lastModifiedBy>user</cp:lastModifiedBy>
  <dcterms:modified xsi:type="dcterms:W3CDTF">2019-09-13T07:24:00Z</dcterms:modified>
  <cp:revision>2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